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30AD-A565-4970-A5DA-E248308F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0BA-C431-4B0A-844C-186772CA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734B-DC5E-49E5-ABCE-68D98945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5E1-33C8-45E0-8D96-90CACFA9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97FE-F967-446E-8A7C-7891B6C6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361-600C-4940-AFE4-3EFD7328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384-2CB5-4B73-91E9-D5935097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716-6064-4508-9E16-C20CB665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546-C6DA-4BA5-96F1-2B02B1E3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455-52E8-474B-81EB-B129834B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DED-4581-4A6C-BCBC-5E7B3F92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CEC0-FFD0-4088-AF07-7EEE372B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4D68-E5A0-4A16-9D98-EF7642F0A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1158840"/>
          <a:ext cx="777240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58840"/>
                    <a:ext cx="777240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stical Modeling and Estimation of Reliability Functions fo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 OPE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new folder for SMERFS3 (optio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click the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ERFS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package on the provided C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, then type the path name for SMERFS3 package 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zi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, “OK” and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 BEGI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click the icon provided in the pack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21563400">
            <a:off x="3276720" y="6019920"/>
            <a:ext cx="1981080" cy="52380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0200 h 523800"/>
              <a:gd name="textAreaBottom" fmla="*/ 4536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5800" y="2970360"/>
          <a:ext cx="3809880" cy="21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70360"/>
                    <a:ext cx="380988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ing and Manipulating a Data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  Opening A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from the tool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ose a sample data file in the SMERFS3 package from the options belo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ftware Interv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ftware TB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dware  TB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TB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 screen prom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*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may also choose “Data Entry” instead of “File” and specify the data, Data Type and Error History manu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2193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  Toolbar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– has a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o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option to display your raw data or smoothed data po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ecu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– has a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erical 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option to choose either “Maximum Likelihood” or “Least Squares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ecu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– has a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 Execu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option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s shown la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at allows one or all Reliability Models to be chosen as well as an “Accuracy Analysis”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2004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3352680"/>
            <a:ext cx="1295280" cy="1006560"/>
          </a:xfrm>
          <a:prstGeom prst="rect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Or create your own file 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TEPA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see next page for data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iability Mode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143000"/>
          <a:ext cx="769608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7696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4419360"/>
            <a:ext cx="80010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Choose toolbar option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ecu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Choose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 Execu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for model choice and “Accuracy Analysi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Choose specific model or “Select all…model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 Choose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uracy Analy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for accuracy comparison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 Select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and follow screen prom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523880"/>
            <a:ext cx="609480" cy="914400"/>
          </a:xfrm>
          <a:prstGeom prst="upArrow">
            <a:avLst>
              <a:gd name="adj1" fmla="val 50000"/>
              <a:gd name="adj2" fmla="val 3750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76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447920"/>
            <a:ext cx="38088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35268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20040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396252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18288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Execution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1066680"/>
          <a:ext cx="7772400" cy="41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7724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4343040"/>
            <a:ext cx="86868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The models, listed at the top of their data columns, and the associated Chi-Square for each are shown in green if there was a successful fit to the data and red if there was no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The model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me butt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n be selected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hown la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o find Estimations for the model, propose Predictions, and plot the original raw vs. predicted data or residual da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The Accuracy Analysis ratings are listed below the models’ names and can be viewed in depth by selecting the 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butt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The 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o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button displays the raw data points and all selected models’ fit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s shown la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The 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button prints all models’ data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See next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95280"/>
            <a:ext cx="228600" cy="312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153280" y="1447920"/>
            <a:ext cx="38124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2438280"/>
            <a:ext cx="15238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2590920"/>
            <a:ext cx="4572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38880" y="3048120"/>
            <a:ext cx="4572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25909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ccessful f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72400" y="30481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 fit/Not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106668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1219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198108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962520"/>
            <a:ext cx="838440" cy="533160"/>
          </a:xfrm>
          <a:prstGeom prst="rightArrow">
            <a:avLst>
              <a:gd name="adj1" fmla="val 50000"/>
              <a:gd name="adj2" fmla="val 3931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4038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2590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3048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Data Pl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19320" y="1066680"/>
          <a:ext cx="670536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67053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From the earlier Model Execution Summary view, the 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o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button at the bottom yields the above grap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This graph shows the raw data plots with the selected models’ fits. Click on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-D glas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tton to view any overlapping model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The raw data and estimated individual model data is listed on the left and can be viewed via the scroll b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371600"/>
            <a:ext cx="304560" cy="914400"/>
          </a:xfrm>
          <a:prstGeom prst="upArrow">
            <a:avLst>
              <a:gd name="adj1" fmla="val 50000"/>
              <a:gd name="adj2" fmla="val 7505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676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imations And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95280" y="1143000"/>
          <a:ext cx="662940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143000"/>
                    <a:ext cx="66294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4647960"/>
            <a:ext cx="777240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d by clicking on the individual model’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n the Model Execution Summary view, this screen shows the individual model’s Estimations and allows for Predictions to be calculated based on user input (white boxes) for Trade-Off Analysis.  Select 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o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to view graphs of original raw data vs. predicted model data or residual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1371600"/>
            <a:ext cx="4572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72400" y="1371600"/>
            <a:ext cx="38088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12193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20:42:02Z</dcterms:created>
  <dc:creator>leeca</dc:creator>
  <dc:description/>
  <dc:language>en-US</dc:language>
  <cp:lastModifiedBy>leeca</cp:lastModifiedBy>
  <dcterms:modified xsi:type="dcterms:W3CDTF">2002-03-13T23:16:02Z</dcterms:modified>
  <cp:revision>11</cp:revision>
  <dc:subject/>
  <dc:title>PowerPoint Presentation</dc:title>
</cp:coreProperties>
</file>