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4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46F4-CD00-45FA-91B7-7D8B92E8B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F3D3-781D-48C8-B163-C5ACF30DA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38320" y="68256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1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95F6-9C83-47A0-9F25-3AA13CBF6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38320" y="68256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1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7226-2DBB-4400-AC0F-7745CA958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38320" y="68256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1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694D-8CBB-4A18-8E00-498C960A6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38320" y="68256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1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7EBDC-C2E4-40EA-8B6D-F3C1C297CF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4AE4D-B8A7-4BB0-9126-A686C63AA2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5FBD2-A1BC-4AA8-B9D1-9AD89456AA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C141F-D108-4B79-82BD-8B2A67F96E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8CE2C-ACE9-4A7D-8F48-1C3AD66C68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E0AF2-62D0-431F-8F20-47ADBF0574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84EB6-4FEB-4F0A-89B4-D73A115BB5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5BF53-FE48-4B03-A50B-F7E52D3480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5DB96-07A3-4C64-A608-1A1D8E241D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38684-E8F3-4E70-AD13-1964F70C51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31EAE-D26F-4948-A060-74C5D45D79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1711C-1747-46B4-AD6C-6AD5626DF2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92432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0BF4-BE0C-4A4B-BB3E-C9EF17E80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1868760" cy="84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28600" y="61722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/14/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38280" y="228600"/>
            <a:ext cx="6178680" cy="946080"/>
          </a:xfrm>
          <a:prstGeom prst="roundRect">
            <a:avLst>
              <a:gd name="adj" fmla="val 12495"/>
            </a:avLst>
          </a:prstGeom>
          <a:solidFill>
            <a:srgbClr val="fcfca1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mailto:farrwh@nswc.navy.mil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smerf3rev2.exe" TargetMode="External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smerf3rev2.exe" TargetMode="External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smerf3rev2.exe" TargetMode="External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smerf3rev2.exe" TargetMode="External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csr.city.ac.uk/" TargetMode="External"/><Relationship Id="rId2" Type="http://schemas.openxmlformats.org/officeDocument/2006/relationships/hyperlink" Target="http://members.aol.com/JohnDMusa/" TargetMode="External"/><Relationship Id="rId3" Type="http://schemas.openxmlformats.org/officeDocument/2006/relationships/hyperlink" Target="http://www.dacs.dtic.mil/" TargetMode="External"/><Relationship Id="rId4" Type="http://schemas.openxmlformats.org/officeDocument/2006/relationships/hyperlink" Target="http://www.dacs.dtic.mil/" TargetMode="External"/><Relationship Id="rId5" Type="http://schemas.openxmlformats.org/officeDocument/2006/relationships/hyperlink" Target="http://www.dacs.dtic.mil/" TargetMode="External"/><Relationship Id="rId6" Type="http://schemas.openxmlformats.org/officeDocument/2006/relationships/hyperlink" Target="http://www.dacs.dtic.mil/" TargetMode="External"/><Relationship Id="rId7" Type="http://schemas.openxmlformats.org/officeDocument/2006/relationships/hyperlink" Target="http://www.dacs.dtic.mil/" TargetMode="Externa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080" y="1447920"/>
            <a:ext cx="895356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oftware Reliability &amp;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MERFS^3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 Methodology and Tool for Software Reliability Assessment</a:t>
            </a:r>
            <a:br>
              <a:rPr sz="36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arch 14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imes New Roman"/>
              </a:rPr>
              <a:t>th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, 2002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Goddard Space Flight Center NAS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5029200"/>
            <a:ext cx="502920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lliam Farr, Ph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35, Combat Systems Branch 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hone: (540) 653-83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x: (540) 653-86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ail: farrwh@nswc.navy.m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868760" cy="84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23BA2-2A05-43AB-91AC-6E8382962F7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600200" y="4267080"/>
            <a:ext cx="3230640" cy="507960"/>
          </a:xfrm>
          <a:prstGeom prst="roundRect">
            <a:avLst>
              <a:gd name="adj" fmla="val 12495"/>
            </a:avLst>
          </a:prstGeom>
          <a:solidFill>
            <a:srgbClr val="a5ff7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019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ROACHES OF S/W RELIABILITY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76520" y="2019240"/>
            <a:ext cx="624816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ROR SEEDING/TAGGING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FE744-211F-4B79-AE40-96D8AD0A96C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ROACH TO ESTIMATING S/W RELIABILITY IN THE TIME DOMA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30000" y="4343040"/>
            <a:ext cx="66229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RELIABILITY 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FAILURES/PERIOD (e.g., 6,4,2,3,1,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BETWEEN FAILURES ( e.g.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t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... t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522440" y="3281040"/>
            <a:ext cx="1440" cy="13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046320" y="3281040"/>
            <a:ext cx="1800" cy="13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417920" y="3281040"/>
            <a:ext cx="1800" cy="13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789520" y="3281040"/>
            <a:ext cx="1800" cy="13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7085160" y="3281040"/>
            <a:ext cx="1440" cy="13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29160" y="3546360"/>
            <a:ext cx="947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3546360"/>
            <a:ext cx="947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IOD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15200" y="3546360"/>
            <a:ext cx="947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IOD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943960" y="3546360"/>
            <a:ext cx="947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IOD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239240" y="3565440"/>
            <a:ext cx="947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IOD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95520" y="3232080"/>
            <a:ext cx="133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x    x xx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19400" y="3263760"/>
            <a:ext cx="126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  x    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95680" y="3203640"/>
            <a:ext cx="104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   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10320" y="3282840"/>
            <a:ext cx="1269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    x     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95360" y="3171960"/>
            <a:ext cx="723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16200000">
            <a:off x="2355840" y="3041640"/>
            <a:ext cx="330480" cy="139680"/>
          </a:xfrm>
          <a:prstGeom prst="rightArrow">
            <a:avLst>
              <a:gd name="adj1" fmla="val 50000"/>
              <a:gd name="adj2" fmla="val 118309"/>
            </a:avLst>
          </a:prstGeom>
          <a:solidFill>
            <a:srgbClr val="8cf4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18960" y="2590920"/>
            <a:ext cx="1819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SOFTWARE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FAIL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2002320" y="3069720"/>
            <a:ext cx="355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82880" y="2975040"/>
            <a:ext cx="2836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6985800" y="2947320"/>
            <a:ext cx="325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936120" y="2898720"/>
            <a:ext cx="2836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48280" y="1708200"/>
            <a:ext cx="1498680" cy="1244520"/>
          </a:xfrm>
          <a:prstGeom prst="parallelogram">
            <a:avLst>
              <a:gd name="adj" fmla="val 3010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88120" y="1849320"/>
            <a:ext cx="1025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92400" y="1701720"/>
            <a:ext cx="1575000" cy="1193760"/>
          </a:xfrm>
          <a:prstGeom prst="parallelogram">
            <a:avLst>
              <a:gd name="adj" fmla="val 22160"/>
            </a:avLst>
          </a:prstGeom>
          <a:solidFill>
            <a:srgbClr val="8cf4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84560" y="2057400"/>
            <a:ext cx="1387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52840" y="1981080"/>
            <a:ext cx="891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934320" y="1600200"/>
            <a:ext cx="733320" cy="11174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572000" y="2235240"/>
            <a:ext cx="711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24600" y="1400040"/>
            <a:ext cx="147600" cy="147600"/>
          </a:xfrm>
          <a:custGeom>
            <a:avLst/>
            <a:gdLst>
              <a:gd name="textAreaLeft" fmla="*/ 33480 w 147600"/>
              <a:gd name="textAreaRight" fmla="*/ 114120 w 147600"/>
              <a:gd name="textAreaTop" fmla="*/ 33480 h 147600"/>
              <a:gd name="textAreaBottom" fmla="*/ 114120 h 147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3000" y="1424160"/>
            <a:ext cx="148212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2638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2638"/>
              </a:path>
            </a:pathLst>
          </a:custGeom>
          <a:noFill/>
          <a:ln cap="rnd" w="25560">
            <a:solidFill>
              <a:srgbClr val="fafd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3000" y="1452600"/>
            <a:ext cx="148212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2638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2638"/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1629000" y="3247200"/>
            <a:ext cx="45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78320" y="2971800"/>
            <a:ext cx="2836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162200" y="327816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09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1008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57800" y="2666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43200" y="2209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23880" y="33526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38EE0-255E-4E56-A467-9F6207FB97B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1460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OFTWARE RELIABILITY MODELS IN THE TIME DOMA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4750200" y="1893960"/>
            <a:ext cx="3425760" cy="3440880"/>
            <a:chOff x="4750200" y="1893960"/>
            <a:chExt cx="3425760" cy="3440880"/>
          </a:xfrm>
        </p:grpSpPr>
        <p:sp>
          <p:nvSpPr>
            <p:cNvPr id="240" name=""/>
            <p:cNvSpPr/>
            <p:nvPr/>
          </p:nvSpPr>
          <p:spPr>
            <a:xfrm>
              <a:off x="5494320" y="452268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86640" y="452268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78600" y="452268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370920" y="452268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62880" y="452268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958080" y="452268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248600" y="452268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42360" y="452268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08760" y="4522680"/>
              <a:ext cx="367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5681520" y="423684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5972040" y="423684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6264360" y="423684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6558120" y="423684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6850080" y="423684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7142040" y="423684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7434360" y="423684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7728120" y="423684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8021520" y="423684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548320" y="4243320"/>
              <a:ext cx="262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104080" y="404172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104080" y="351936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04080" y="299736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04080" y="245592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04080" y="193356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5459040" y="42433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497200" y="42433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5459040" y="372276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5497200" y="37227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5459040" y="32004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5497200" y="320040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5459040" y="26560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5497200" y="26560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5459040" y="213516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5497200" y="21351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5541840" y="2128680"/>
              <a:ext cx="0" cy="212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48320" y="2130480"/>
              <a:ext cx="2620800" cy="209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640480" y="3919680"/>
              <a:ext cx="77760" cy="8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646600" y="3925800"/>
              <a:ext cx="84240" cy="93600"/>
            </a:xfrm>
            <a:prstGeom prst="line">
              <a:avLst/>
            </a:prstGeom>
            <a:ln w="12600">
              <a:solidFill>
                <a:srgbClr val="de0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5634000" y="3925800"/>
              <a:ext cx="109440" cy="93600"/>
            </a:xfrm>
            <a:prstGeom prst="line">
              <a:avLst/>
            </a:prstGeom>
            <a:ln w="12600">
              <a:solidFill>
                <a:srgbClr val="de0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934240" y="3670200"/>
              <a:ext cx="7776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940360" y="3676680"/>
              <a:ext cx="84240" cy="90360"/>
            </a:xfrm>
            <a:prstGeom prst="line">
              <a:avLst/>
            </a:prstGeom>
            <a:ln w="12600">
              <a:solidFill>
                <a:srgbClr val="de0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927760" y="3676680"/>
              <a:ext cx="109440" cy="90360"/>
            </a:xfrm>
            <a:prstGeom prst="line">
              <a:avLst/>
            </a:prstGeom>
            <a:ln w="12600">
              <a:solidFill>
                <a:srgbClr val="de0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26200" y="3919680"/>
              <a:ext cx="79200" cy="8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32680" y="3925800"/>
              <a:ext cx="85680" cy="93600"/>
            </a:xfrm>
            <a:prstGeom prst="line">
              <a:avLst/>
            </a:prstGeom>
            <a:ln w="12600">
              <a:solidFill>
                <a:srgbClr val="de0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6219360" y="3925800"/>
              <a:ext cx="111240" cy="93600"/>
            </a:xfrm>
            <a:prstGeom prst="line">
              <a:avLst/>
            </a:prstGeom>
            <a:ln w="12600">
              <a:solidFill>
                <a:srgbClr val="de0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18160" y="3670200"/>
              <a:ext cx="7776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524640" y="3676680"/>
              <a:ext cx="85680" cy="90360"/>
            </a:xfrm>
            <a:prstGeom prst="line">
              <a:avLst/>
            </a:prstGeom>
            <a:ln w="12600">
              <a:solidFill>
                <a:srgbClr val="de0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6512040" y="3676680"/>
              <a:ext cx="110880" cy="90360"/>
            </a:xfrm>
            <a:prstGeom prst="line">
              <a:avLst/>
            </a:prstGeom>
            <a:ln w="12600">
              <a:solidFill>
                <a:srgbClr val="de0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810480" y="3398760"/>
              <a:ext cx="7776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16600" y="3405240"/>
              <a:ext cx="85680" cy="92160"/>
            </a:xfrm>
            <a:prstGeom prst="line">
              <a:avLst/>
            </a:prstGeom>
            <a:ln w="12600">
              <a:solidFill>
                <a:srgbClr val="de0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6803640" y="3405240"/>
              <a:ext cx="111240" cy="92160"/>
            </a:xfrm>
            <a:prstGeom prst="line">
              <a:avLst/>
            </a:prstGeom>
            <a:ln w="12600">
              <a:solidFill>
                <a:srgbClr val="de0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02440" y="3148200"/>
              <a:ext cx="79560" cy="8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108920" y="3154320"/>
              <a:ext cx="85680" cy="92160"/>
            </a:xfrm>
            <a:prstGeom prst="line">
              <a:avLst/>
            </a:prstGeom>
            <a:ln w="12600">
              <a:solidFill>
                <a:srgbClr val="de0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7095600" y="3154320"/>
              <a:ext cx="111240" cy="92160"/>
            </a:xfrm>
            <a:prstGeom prst="line">
              <a:avLst/>
            </a:prstGeom>
            <a:ln w="12600">
              <a:solidFill>
                <a:srgbClr val="de0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96200" y="3398760"/>
              <a:ext cx="7776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402680" y="3405240"/>
              <a:ext cx="83880" cy="92160"/>
            </a:xfrm>
            <a:prstGeom prst="line">
              <a:avLst/>
            </a:prstGeom>
            <a:ln w="12600">
              <a:solidFill>
                <a:srgbClr val="de0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7389360" y="3405240"/>
              <a:ext cx="109800" cy="92160"/>
            </a:xfrm>
            <a:prstGeom prst="line">
              <a:avLst/>
            </a:prstGeom>
            <a:ln w="12600">
              <a:solidFill>
                <a:srgbClr val="de0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689960" y="2604960"/>
              <a:ext cx="7596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96080" y="2611440"/>
              <a:ext cx="82800" cy="92160"/>
            </a:xfrm>
            <a:prstGeom prst="line">
              <a:avLst/>
            </a:prstGeom>
            <a:ln w="12600">
              <a:solidFill>
                <a:srgbClr val="de0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7683480" y="2611440"/>
              <a:ext cx="108000" cy="92160"/>
            </a:xfrm>
            <a:prstGeom prst="line">
              <a:avLst/>
            </a:prstGeom>
            <a:ln w="12600">
              <a:solidFill>
                <a:srgbClr val="de0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0480" y="2354400"/>
              <a:ext cx="79200" cy="8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986600" y="2360520"/>
              <a:ext cx="84240" cy="92160"/>
            </a:xfrm>
            <a:prstGeom prst="line">
              <a:avLst/>
            </a:prstGeom>
            <a:ln w="12600">
              <a:solidFill>
                <a:srgbClr val="de0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7974000" y="2360520"/>
              <a:ext cx="109440" cy="92160"/>
            </a:xfrm>
            <a:prstGeom prst="line">
              <a:avLst/>
            </a:prstGeom>
            <a:ln w="12600">
              <a:solidFill>
                <a:srgbClr val="de0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104160" y="5108760"/>
              <a:ext cx="1193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entury Gothic"/>
                </a:rPr>
                <a:t>FAILURE NUMB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83680" y="189396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entury Gothic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805280" y="2102040"/>
              <a:ext cx="2257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entury Gothic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751640" y="2311560"/>
              <a:ext cx="2898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entury Gothic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89800" y="2521080"/>
              <a:ext cx="2455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entury Gothic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12120" y="2728800"/>
              <a:ext cx="2120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87640" y="2936880"/>
              <a:ext cx="2577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entury Gothic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89800" y="3146400"/>
              <a:ext cx="2455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entury Gothic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83680" y="335592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entury Gothic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50200" y="3564000"/>
              <a:ext cx="29268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entury Gothic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789800" y="3772080"/>
              <a:ext cx="2455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entury Gothic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789800" y="3983040"/>
              <a:ext cx="2455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entury Gothic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768920" y="4191120"/>
              <a:ext cx="2743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entury Gothic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1211400" y="5686560"/>
            <a:ext cx="2898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ILURE COUNTS PL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558720" y="1874880"/>
            <a:ext cx="3384720" cy="3459600"/>
            <a:chOff x="558720" y="1874880"/>
            <a:chExt cx="3384720" cy="3459600"/>
          </a:xfrm>
        </p:grpSpPr>
        <p:sp>
          <p:nvSpPr>
            <p:cNvPr id="318" name=""/>
            <p:cNvSpPr/>
            <p:nvPr/>
          </p:nvSpPr>
          <p:spPr>
            <a:xfrm>
              <a:off x="1354320" y="450360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791000" y="450360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227320" y="450360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65440" y="450360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102120" y="450360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12880" y="4503600"/>
              <a:ext cx="367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1538280" y="4208040"/>
              <a:ext cx="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1974960" y="4208040"/>
              <a:ext cx="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409840" y="4208040"/>
              <a:ext cx="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847960" y="4208040"/>
              <a:ext cx="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3284640" y="4208040"/>
              <a:ext cx="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3720960" y="4208040"/>
              <a:ext cx="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335240" y="4214880"/>
              <a:ext cx="260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98560" y="400824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98560" y="357804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98560" y="314640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98560" y="273672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98560" y="230652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98560" y="187488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1245960" y="42148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1282680" y="421488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1245960" y="37846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1282680" y="378468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1245960" y="33526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1282680" y="335268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1245960" y="29430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1282680" y="294300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1245960" y="25128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1282680" y="251280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1245960" y="20826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1282680" y="2082600"/>
              <a:ext cx="5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1328760" y="2076120"/>
              <a:ext cx="0" cy="214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335240" y="2077920"/>
              <a:ext cx="2608200" cy="2121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98680" y="2028600"/>
              <a:ext cx="75960" cy="8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504800" y="2035080"/>
              <a:ext cx="82800" cy="93600"/>
            </a:xfrm>
            <a:prstGeom prst="line">
              <a:avLst/>
            </a:prstGeom>
            <a:ln w="12600">
              <a:solidFill>
                <a:srgbClr val="de0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1492200" y="2035080"/>
              <a:ext cx="108000" cy="93600"/>
            </a:xfrm>
            <a:prstGeom prst="line">
              <a:avLst/>
            </a:prstGeom>
            <a:ln w="12600">
              <a:solidFill>
                <a:srgbClr val="de0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35000" y="2890800"/>
              <a:ext cx="78120" cy="8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941480" y="2897280"/>
              <a:ext cx="82440" cy="95040"/>
            </a:xfrm>
            <a:prstGeom prst="line">
              <a:avLst/>
            </a:prstGeom>
            <a:ln w="12600">
              <a:solidFill>
                <a:srgbClr val="de0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1928880" y="2897280"/>
              <a:ext cx="108000" cy="95040"/>
            </a:xfrm>
            <a:prstGeom prst="line">
              <a:avLst/>
            </a:prstGeom>
            <a:ln w="12600">
              <a:solidFill>
                <a:srgbClr val="de0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373480" y="2459160"/>
              <a:ext cx="75960" cy="8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79600" y="2465280"/>
              <a:ext cx="82440" cy="96840"/>
            </a:xfrm>
            <a:prstGeom prst="line">
              <a:avLst/>
            </a:prstGeom>
            <a:ln w="12600">
              <a:solidFill>
                <a:srgbClr val="de0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2367000" y="2465280"/>
              <a:ext cx="108000" cy="96840"/>
            </a:xfrm>
            <a:prstGeom prst="line">
              <a:avLst/>
            </a:prstGeom>
            <a:ln w="12600">
              <a:solidFill>
                <a:srgbClr val="de0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09800" y="3730680"/>
              <a:ext cx="76320" cy="8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16280" y="3736800"/>
              <a:ext cx="82440" cy="93960"/>
            </a:xfrm>
            <a:prstGeom prst="line">
              <a:avLst/>
            </a:prstGeom>
            <a:ln w="12600">
              <a:solidFill>
                <a:srgbClr val="de0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803320" y="3736800"/>
              <a:ext cx="107640" cy="93960"/>
            </a:xfrm>
            <a:prstGeom prst="line">
              <a:avLst/>
            </a:prstGeom>
            <a:ln w="12600">
              <a:solidFill>
                <a:srgbClr val="de0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247920" y="3300480"/>
              <a:ext cx="76320" cy="8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254400" y="3306600"/>
              <a:ext cx="82440" cy="93600"/>
            </a:xfrm>
            <a:prstGeom prst="line">
              <a:avLst/>
            </a:prstGeom>
            <a:ln w="12600">
              <a:solidFill>
                <a:srgbClr val="de0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3241800" y="3306600"/>
              <a:ext cx="108000" cy="93600"/>
            </a:xfrm>
            <a:prstGeom prst="line">
              <a:avLst/>
            </a:prstGeom>
            <a:ln w="12600">
              <a:solidFill>
                <a:srgbClr val="de0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684600" y="4160880"/>
              <a:ext cx="76320" cy="8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91080" y="4167000"/>
              <a:ext cx="82440" cy="95400"/>
            </a:xfrm>
            <a:prstGeom prst="line">
              <a:avLst/>
            </a:prstGeom>
            <a:ln w="12600">
              <a:solidFill>
                <a:srgbClr val="de0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3678120" y="4167000"/>
              <a:ext cx="108000" cy="95400"/>
            </a:xfrm>
            <a:prstGeom prst="line">
              <a:avLst/>
            </a:prstGeom>
            <a:ln w="12600">
              <a:solidFill>
                <a:srgbClr val="de0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42480" y="5108400"/>
              <a:ext cx="11217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entury Gothic"/>
                </a:rPr>
                <a:t>TESTING PERIO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3920" y="2460600"/>
              <a:ext cx="2545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entury Gothic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58720" y="2674800"/>
              <a:ext cx="27288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entury Gothic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69160" y="2890800"/>
              <a:ext cx="2682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entury Gothic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1680" y="3105000"/>
              <a:ext cx="2743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entury Gothic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6440" y="332100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entury Gothic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93280" y="3537000"/>
              <a:ext cx="24408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entury Gothic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5590440" y="5656320"/>
            <a:ext cx="255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ILURE TIME PL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523880" y="2209680"/>
            <a:ext cx="2133720" cy="1752840"/>
          </a:xfrm>
          <a:custGeom>
            <a:avLst/>
            <a:gdLst/>
            <a:ahLst/>
            <a:rect l="l" t="t" r="r" b="b"/>
            <a:pathLst>
              <a:path w="1344" h="1104">
                <a:moveTo>
                  <a:pt x="0" y="0"/>
                </a:moveTo>
                <a:cubicBezTo>
                  <a:pt x="0" y="0"/>
                  <a:pt x="672" y="552"/>
                  <a:pt x="1344" y="1104"/>
                </a:cubicBezTo>
              </a:path>
            </a:pathLst>
          </a:custGeom>
          <a:noFill/>
          <a:ln w="9360">
            <a:solidFill>
              <a:srgbClr val="4a0fd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22920" y="2403360"/>
            <a:ext cx="2254320" cy="1482840"/>
          </a:xfrm>
          <a:custGeom>
            <a:avLst/>
            <a:gdLst/>
            <a:ahLst/>
            <a:rect l="l" t="t" r="r" b="b"/>
            <a:pathLst>
              <a:path w="1420" h="934">
                <a:moveTo>
                  <a:pt x="0" y="934"/>
                </a:moveTo>
                <a:cubicBezTo>
                  <a:pt x="135" y="889"/>
                  <a:pt x="282" y="899"/>
                  <a:pt x="417" y="854"/>
                </a:cubicBezTo>
                <a:cubicBezTo>
                  <a:pt x="463" y="839"/>
                  <a:pt x="510" y="830"/>
                  <a:pt x="556" y="814"/>
                </a:cubicBezTo>
                <a:cubicBezTo>
                  <a:pt x="576" y="807"/>
                  <a:pt x="616" y="795"/>
                  <a:pt x="616" y="795"/>
                </a:cubicBezTo>
                <a:cubicBezTo>
                  <a:pt x="730" y="717"/>
                  <a:pt x="566" y="826"/>
                  <a:pt x="675" y="765"/>
                </a:cubicBezTo>
                <a:cubicBezTo>
                  <a:pt x="778" y="708"/>
                  <a:pt x="697" y="738"/>
                  <a:pt x="765" y="715"/>
                </a:cubicBezTo>
                <a:cubicBezTo>
                  <a:pt x="801" y="690"/>
                  <a:pt x="843" y="650"/>
                  <a:pt x="884" y="636"/>
                </a:cubicBezTo>
                <a:cubicBezTo>
                  <a:pt x="897" y="626"/>
                  <a:pt x="910" y="615"/>
                  <a:pt x="924" y="606"/>
                </a:cubicBezTo>
                <a:cubicBezTo>
                  <a:pt x="936" y="598"/>
                  <a:pt x="951" y="595"/>
                  <a:pt x="963" y="586"/>
                </a:cubicBezTo>
                <a:cubicBezTo>
                  <a:pt x="997" y="561"/>
                  <a:pt x="1011" y="540"/>
                  <a:pt x="1053" y="526"/>
                </a:cubicBezTo>
                <a:cubicBezTo>
                  <a:pt x="1132" y="447"/>
                  <a:pt x="1199" y="371"/>
                  <a:pt x="1261" y="278"/>
                </a:cubicBezTo>
                <a:cubicBezTo>
                  <a:pt x="1284" y="244"/>
                  <a:pt x="1297" y="213"/>
                  <a:pt x="1321" y="179"/>
                </a:cubicBezTo>
                <a:cubicBezTo>
                  <a:pt x="1335" y="159"/>
                  <a:pt x="1361" y="119"/>
                  <a:pt x="1361" y="119"/>
                </a:cubicBezTo>
                <a:cubicBezTo>
                  <a:pt x="1363" y="112"/>
                  <a:pt x="1376" y="67"/>
                  <a:pt x="1380" y="60"/>
                </a:cubicBezTo>
                <a:cubicBezTo>
                  <a:pt x="1392" y="39"/>
                  <a:pt x="1420" y="0"/>
                  <a:pt x="1420" y="0"/>
                </a:cubicBezTo>
              </a:path>
            </a:pathLst>
          </a:custGeom>
          <a:noFill/>
          <a:ln w="9360">
            <a:solidFill>
              <a:srgbClr val="4a0fd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575E3-9093-4047-ADA9-810EF8E988A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 SOFTWARE RELIABILITY MEA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190760" cy="515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RROR COUNT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TAL NUMBER OF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PECTED NUMBER OF ERRORS IN FUTURE TESTING PERI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ILURE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STING TIME REQUIRED TO ELIMINATE THE NEXT K ERRORS OR TO ACHIEVE A SPECIFIED FAILURE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RENT PROGRAM RELI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47960" y="13712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IME BETWEE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TAL NUMBER OF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AN TIME TO NEXT 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ILURE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STING TIME REQUIRED TO ACHIEVE A SPECIFI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RENT PROGRAM RELI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0D34E-1CE2-4CDB-971D-F1FBBDC6E6B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666520" y="76320"/>
            <a:ext cx="5791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unctions Used i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liability Mode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(t) = Cumulative # of Faults by time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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{M(t)} = Cumulative Mean Value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) = d (E{M(t)} )  = Failure Intensity 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cted Number of faults in the nex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tim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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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676520" y="3549600"/>
            <a:ext cx="1828800" cy="8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9480" y="2185920"/>
            <a:ext cx="274320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^       ^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^           ^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^          ^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8030E-E333-47BE-B63A-C7ABEE75C6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14240" y="22860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AMPL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RADE-OFF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401360" y="5746680"/>
            <a:ext cx="576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0.0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84120" y="5746680"/>
            <a:ext cx="576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53920" y="5746680"/>
            <a:ext cx="576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0.0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836680" y="5746680"/>
            <a:ext cx="576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0.00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306480" y="5746680"/>
            <a:ext cx="576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0.00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789240" y="5746680"/>
            <a:ext cx="576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0.00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4686480" y="5626080"/>
            <a:ext cx="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4686480" y="562608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5168880" y="5626080"/>
            <a:ext cx="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5168880" y="562608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5638680" y="5626080"/>
            <a:ext cx="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5638680" y="562608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6121440" y="5626080"/>
            <a:ext cx="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6121440" y="562608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6591240" y="5626080"/>
            <a:ext cx="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6591240" y="562608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7074000" y="5626080"/>
            <a:ext cx="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7074000" y="562608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92600" y="5632560"/>
            <a:ext cx="237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32680" y="5530680"/>
            <a:ext cx="253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97680" y="5187960"/>
            <a:ext cx="396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297680" y="4844880"/>
            <a:ext cx="396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97680" y="4502160"/>
            <a:ext cx="396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97680" y="4159080"/>
            <a:ext cx="396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230000" y="3816360"/>
            <a:ext cx="468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4629240" y="563256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654440" y="56325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4629240" y="528948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4654440" y="52894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629240" y="494676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654440" y="49467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4629240" y="460368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4654440" y="46036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4629240" y="426096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4654440" y="42609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4629240" y="391788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654440" y="39178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4686480" y="3911400"/>
            <a:ext cx="0" cy="172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86480" y="3848040"/>
            <a:ext cx="64800" cy="1779480"/>
          </a:xfrm>
          <a:custGeom>
            <a:avLst/>
            <a:gdLst/>
            <a:ahLst/>
            <a:rect l="l" t="t" r="r" b="b"/>
            <a:pathLst>
              <a:path w="41" h="1121">
                <a:moveTo>
                  <a:pt x="0" y="1120"/>
                </a:moveTo>
                <a:lnTo>
                  <a:pt x="0" y="40"/>
                </a:lnTo>
                <a:lnTo>
                  <a:pt x="4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692600" y="5555880"/>
            <a:ext cx="63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7080120" y="5555880"/>
            <a:ext cx="6372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756320" y="3854520"/>
            <a:ext cx="2374560" cy="1701720"/>
          </a:xfrm>
          <a:prstGeom prst="rect">
            <a:avLst/>
          </a:prstGeom>
          <a:solidFill>
            <a:srgbClr val="b8dc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699080" y="4064040"/>
            <a:ext cx="2147760" cy="1550880"/>
          </a:xfrm>
          <a:custGeom>
            <a:avLst/>
            <a:gdLst/>
            <a:ahLst/>
            <a:rect l="l" t="t" r="r" b="b"/>
            <a:pathLst>
              <a:path w="1353" h="977">
                <a:moveTo>
                  <a:pt x="0" y="0"/>
                </a:moveTo>
                <a:lnTo>
                  <a:pt x="304" y="288"/>
                </a:lnTo>
                <a:lnTo>
                  <a:pt x="600" y="528"/>
                </a:lnTo>
                <a:lnTo>
                  <a:pt x="1056" y="816"/>
                </a:lnTo>
                <a:lnTo>
                  <a:pt x="1352" y="976"/>
                </a:lnTo>
              </a:path>
            </a:pathLst>
          </a:custGeom>
          <a:noFill/>
          <a:ln cap="rnd"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667400" y="4044960"/>
            <a:ext cx="37800" cy="3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667400" y="4044960"/>
            <a:ext cx="37800" cy="3816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86480" y="4064040"/>
            <a:ext cx="1440" cy="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143680" y="4495680"/>
            <a:ext cx="5076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149800" y="4502160"/>
            <a:ext cx="38160" cy="381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148360" y="4503600"/>
            <a:ext cx="38160" cy="3816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13480" y="4876920"/>
            <a:ext cx="5076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619600" y="4883040"/>
            <a:ext cx="38160" cy="3816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638680" y="490212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337440" y="5334120"/>
            <a:ext cx="5076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343560" y="5340240"/>
            <a:ext cx="38160" cy="3816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362640" y="535932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813720" y="5594400"/>
            <a:ext cx="37800" cy="3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13720" y="5594400"/>
            <a:ext cx="37800" cy="3816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832440" y="5613480"/>
            <a:ext cx="1800" cy="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264440" y="4762440"/>
            <a:ext cx="1904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315200" y="4737240"/>
            <a:ext cx="5076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327800" y="4711680"/>
            <a:ext cx="76320" cy="889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340760" y="476244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521120" y="4657680"/>
            <a:ext cx="943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TES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435920" y="6018120"/>
            <a:ext cx="2913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FAILURE INTENSIT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98880" y="3908520"/>
            <a:ext cx="270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017240" y="4073400"/>
            <a:ext cx="240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71520" y="4238640"/>
            <a:ext cx="324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008960" y="4403880"/>
            <a:ext cx="266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29480" y="4568760"/>
            <a:ext cx="22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18680" y="4734000"/>
            <a:ext cx="230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029480" y="4898880"/>
            <a:ext cx="22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984480" y="5064120"/>
            <a:ext cx="298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96720" y="5229360"/>
            <a:ext cx="28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009680" y="5394240"/>
            <a:ext cx="265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30520" y="3537000"/>
            <a:ext cx="396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491120" y="3537000"/>
            <a:ext cx="396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096640" y="3537000"/>
            <a:ext cx="468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744280" y="3537000"/>
            <a:ext cx="468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12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404520" y="3537000"/>
            <a:ext cx="468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14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1015920" y="3416400"/>
            <a:ext cx="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1015920" y="341640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1676520" y="3416400"/>
            <a:ext cx="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1676520" y="341640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324160" y="3416400"/>
            <a:ext cx="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2324160" y="341640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2971800" y="3416400"/>
            <a:ext cx="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971800" y="341640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3632040" y="3416400"/>
            <a:ext cx="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3632040" y="341640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022400" y="3422520"/>
            <a:ext cx="260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2480" y="3321000"/>
            <a:ext cx="253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27480" y="3041640"/>
            <a:ext cx="396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27480" y="2762280"/>
            <a:ext cx="396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7480" y="2482920"/>
            <a:ext cx="396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27480" y="2216160"/>
            <a:ext cx="396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59800" y="1936800"/>
            <a:ext cx="468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59800" y="1657440"/>
            <a:ext cx="468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12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958320" y="3422520"/>
            <a:ext cx="6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984240" y="34225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958320" y="3143160"/>
            <a:ext cx="6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984240" y="31431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958320" y="2863800"/>
            <a:ext cx="6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984240" y="286380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958320" y="2584440"/>
            <a:ext cx="6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984240" y="25844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958320" y="2317680"/>
            <a:ext cx="6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984240" y="23176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958320" y="2038320"/>
            <a:ext cx="6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984240" y="20383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958320" y="1758960"/>
            <a:ext cx="6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984240" y="17589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1015920" y="1752120"/>
            <a:ext cx="0" cy="167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015920" y="1689120"/>
            <a:ext cx="65160" cy="1728720"/>
          </a:xfrm>
          <a:custGeom>
            <a:avLst/>
            <a:gdLst/>
            <a:ahLst/>
            <a:rect l="l" t="t" r="r" b="b"/>
            <a:pathLst>
              <a:path w="41" h="1089">
                <a:moveTo>
                  <a:pt x="0" y="1088"/>
                </a:moveTo>
                <a:lnTo>
                  <a:pt x="0" y="40"/>
                </a:lnTo>
                <a:lnTo>
                  <a:pt x="4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1022400" y="3346200"/>
            <a:ext cx="6336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3638520" y="3346200"/>
            <a:ext cx="6336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085760" y="1695600"/>
            <a:ext cx="2603520" cy="1650960"/>
          </a:xfrm>
          <a:prstGeom prst="rect">
            <a:avLst/>
          </a:prstGeom>
          <a:solidFill>
            <a:srgbClr val="b8dc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028880" y="1854360"/>
            <a:ext cx="2617560" cy="1525320"/>
          </a:xfrm>
          <a:custGeom>
            <a:avLst/>
            <a:gdLst/>
            <a:ahLst/>
            <a:rect l="l" t="t" r="r" b="b"/>
            <a:pathLst>
              <a:path w="1649" h="961">
                <a:moveTo>
                  <a:pt x="0" y="960"/>
                </a:moveTo>
                <a:lnTo>
                  <a:pt x="208" y="800"/>
                </a:lnTo>
                <a:lnTo>
                  <a:pt x="416" y="656"/>
                </a:lnTo>
                <a:lnTo>
                  <a:pt x="616" y="536"/>
                </a:lnTo>
                <a:lnTo>
                  <a:pt x="824" y="424"/>
                </a:lnTo>
                <a:lnTo>
                  <a:pt x="1032" y="232"/>
                </a:lnTo>
                <a:lnTo>
                  <a:pt x="1232" y="144"/>
                </a:lnTo>
                <a:lnTo>
                  <a:pt x="1440" y="64"/>
                </a:lnTo>
                <a:lnTo>
                  <a:pt x="1648" y="0"/>
                </a:lnTo>
              </a:path>
            </a:pathLst>
          </a:custGeom>
          <a:noFill/>
          <a:ln cap="rnd"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990720" y="3352680"/>
            <a:ext cx="5076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996840" y="3359160"/>
            <a:ext cx="38160" cy="3816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015920" y="3378240"/>
            <a:ext cx="1800" cy="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320840" y="3098880"/>
            <a:ext cx="5076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327320" y="3105000"/>
            <a:ext cx="37800" cy="3816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346040" y="3124080"/>
            <a:ext cx="1800" cy="180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650960" y="2870280"/>
            <a:ext cx="5076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57440" y="2876400"/>
            <a:ext cx="38160" cy="3816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76520" y="289548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68480" y="2679840"/>
            <a:ext cx="5076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74960" y="2685960"/>
            <a:ext cx="38160" cy="3816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94040" y="2705040"/>
            <a:ext cx="1440" cy="180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298600" y="2502000"/>
            <a:ext cx="5076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305080" y="2508120"/>
            <a:ext cx="38160" cy="3816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324160" y="2527200"/>
            <a:ext cx="1440" cy="180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629080" y="2197080"/>
            <a:ext cx="5076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635200" y="2203560"/>
            <a:ext cx="38160" cy="3816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654280" y="222264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946240" y="2057400"/>
            <a:ext cx="5112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952720" y="2063880"/>
            <a:ext cx="38160" cy="378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971800" y="208296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76720" y="1930320"/>
            <a:ext cx="5076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282840" y="1936800"/>
            <a:ext cx="38160" cy="3816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301920" y="1955880"/>
            <a:ext cx="18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606840" y="1828800"/>
            <a:ext cx="5076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613320" y="1835280"/>
            <a:ext cx="37800" cy="378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632040" y="1854360"/>
            <a:ext cx="1800" cy="14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797280" y="2571840"/>
            <a:ext cx="2350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873600" y="2552760"/>
            <a:ext cx="5076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79720" y="2558880"/>
            <a:ext cx="38160" cy="381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73600" y="2527200"/>
            <a:ext cx="69840" cy="763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079520" y="2473200"/>
            <a:ext cx="943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TES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069640" y="3809880"/>
            <a:ext cx="670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MTB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28680" y="1724040"/>
            <a:ext cx="270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47040" y="1889280"/>
            <a:ext cx="240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00960" y="2054160"/>
            <a:ext cx="324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38760" y="2219400"/>
            <a:ext cx="266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59280" y="2384280"/>
            <a:ext cx="22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48480" y="2549520"/>
            <a:ext cx="230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59280" y="2714760"/>
            <a:ext cx="22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13920" y="2879640"/>
            <a:ext cx="298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26520" y="3044880"/>
            <a:ext cx="28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39480" y="3209760"/>
            <a:ext cx="265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7FD04-7D75-4280-9E32-6694F8C27D9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96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 UN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ounts”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– by day, week, month, quarter, et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Time Between”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– Wall Clock, CPU, Number of Test Cases, Natural unit (e.g. # transactions, # printed pages, etc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914400" y="54100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l Experience:  Counts by month provided the easiest to implement without impacting prediction accura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7ABFB-34C2-4B74-BDAE-931A4DF22A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514240" y="151920"/>
            <a:ext cx="6095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URRENT STATUS OF RELIABILITY MOD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ly over 75 models in the Lit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RE Newsletter, International Symposium (12 held – next in Annapolis), Numerous Publications on the subject including 4 key books, (Wallace – “ Practical Software Reliability Modeling”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s already exist, e.g. IEEE 982.1 and 982.2 and AIAA’s ANSI/AIAA “Recommended Practice for Software Reliability” (R-013-199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Reliability modeling is applied in a wide variety of applications, e.g. Communications (AT&amp;T Best Practice), Space Program (Shuttle, Galileo); DOD (Trident &amp; Tomahawk), and Industry (SMERFS and SMERFS^3 distributed internationally to over 300 organization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E7E8A-D1B9-4D3B-A175-BA5B35A812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47280" y="2704680"/>
            <a:ext cx="796284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HISTORY OF SMERFS^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92468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5A7E-0477-499F-B107-45D35AA2B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868760" cy="84456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0" y="6553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/14/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438F6-3AE9-429D-8565-6F6696C9C6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GANIZATION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ENSURE THE HIGHEST QUALITY IN THE DELIVERED PRODUCTS TO THE NAVY THROUG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Verification and Validatio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 Quality Control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 Configuration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Times New Roman"/>
              </a:rPr>
              <a:t>THROUGHOU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LIFECYCLE OF THE PRODU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FAFB1-30CA-4FFB-9E47-2B8D6BEED15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0" y="304560"/>
            <a:ext cx="5867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provide an overview of software reliability and to illustrate the SMERFS^3 tool for software reliability assessm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49D13-41BA-4463-A632-DE3669EBB7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21200" cy="97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FTWARE RELIABILITY MODELING AT NSWC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BM Software Development program initiated research in 198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stigated “software reliability modeling” appr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d a useful reliability tool for QA (SMERF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ed software reliability methodology on the Trident I (C4) and Trident II (D5)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ineering of Complex Systems 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nsored by the Office of Naval Resear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articular task was to develop methodologies and their implementations for the evaluation and assessment of “complex”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ment of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MERFS^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tistical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eling an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mation of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ability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tions fo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stems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war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dware, an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ste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ABB83-ACCA-47CF-A736-4225EC97AFD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37920" y="304560"/>
            <a:ext cx="62485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SMERFS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SMERFS^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938960" y="1555920"/>
            <a:ext cx="2973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0" y="1828800"/>
            <a:ext cx="4478760" cy="3850560"/>
            <a:chOff x="0" y="1828800"/>
            <a:chExt cx="4478760" cy="3850560"/>
          </a:xfrm>
        </p:grpSpPr>
        <p:sp>
          <p:nvSpPr>
            <p:cNvPr id="564" name=""/>
            <p:cNvSpPr/>
            <p:nvPr/>
          </p:nvSpPr>
          <p:spPr>
            <a:xfrm>
              <a:off x="0" y="1828800"/>
              <a:ext cx="4118040" cy="78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Book Antiqua"/>
                </a:rPr>
                <a:t>  </a:t>
              </a:r>
              <a:r>
                <a:rPr b="1" lang="en-US" sz="4600" spc="-1" strike="noStrike">
                  <a:solidFill>
                    <a:srgbClr val="ff0000"/>
                  </a:solidFill>
                  <a:latin typeface="Book Antiqua"/>
                </a:rPr>
                <a:t>S</a:t>
              </a:r>
              <a:r>
                <a:rPr b="1" lang="en-US" sz="3900" spc="-1" strike="noStrike">
                  <a:solidFill>
                    <a:srgbClr val="000000"/>
                  </a:solidFill>
                  <a:latin typeface="Book Antiqua"/>
                </a:rPr>
                <a:t>  </a:t>
              </a:r>
              <a:r>
                <a:rPr b="1" lang="en-US" sz="3500" spc="-1" strike="noStrike">
                  <a:solidFill>
                    <a:srgbClr val="000000"/>
                  </a:solidFill>
                  <a:latin typeface="Book Antiqua"/>
                </a:rPr>
                <a:t>TATISTICAL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92960" y="2336760"/>
              <a:ext cx="731520" cy="78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ff0000"/>
                  </a:solidFill>
                  <a:latin typeface="Book Antiqua"/>
                </a:rPr>
                <a:t>M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902880" y="2463840"/>
              <a:ext cx="345060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1" lang="en-US" sz="3500" spc="-1" strike="noStrike">
                  <a:solidFill>
                    <a:srgbClr val="000000"/>
                  </a:solidFill>
                  <a:latin typeface="Book Antiqua"/>
                </a:rPr>
                <a:t>ODELING AND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85040" y="2971800"/>
              <a:ext cx="812520" cy="78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ff0000"/>
                  </a:solidFill>
                  <a:latin typeface="Book Antiqua"/>
                </a:rPr>
                <a:t>E</a:t>
              </a:r>
              <a:r>
                <a:rPr b="1" lang="en-US" sz="4600" spc="-1" strike="noStrike">
                  <a:solidFill>
                    <a:srgbClr val="000000"/>
                  </a:solidFill>
                  <a:latin typeface="Book Antiqua"/>
                </a:rPr>
                <a:t>  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953640" y="3098880"/>
              <a:ext cx="344268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Book Antiqua"/>
                </a:rPr>
                <a:t>STIMATION OF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4040" y="3619440"/>
              <a:ext cx="567000" cy="78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ff0000"/>
                  </a:solidFill>
                  <a:latin typeface="Book Antiqua"/>
                </a:rPr>
                <a:t>R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93720" y="3746520"/>
              <a:ext cx="282708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Book Antiqua"/>
                </a:rPr>
                <a:t>  </a:t>
              </a:r>
              <a:r>
                <a:rPr b="1" lang="en-US" sz="3500" spc="-1" strike="noStrike">
                  <a:solidFill>
                    <a:srgbClr val="000000"/>
                  </a:solidFill>
                  <a:latin typeface="Book Antiqua"/>
                </a:rPr>
                <a:t>ELIABILITY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72440" y="4254480"/>
              <a:ext cx="806400" cy="78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ff0000"/>
                  </a:solidFill>
                  <a:latin typeface="Book Antiqua"/>
                </a:rPr>
                <a:t>F</a:t>
              </a:r>
              <a:r>
                <a:rPr b="1" lang="en-US" sz="4600" spc="-1" strike="noStrike">
                  <a:solidFill>
                    <a:srgbClr val="000000"/>
                  </a:solidFill>
                  <a:latin typeface="Book Antiqua"/>
                </a:rPr>
                <a:t>  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916920" y="4381560"/>
              <a:ext cx="356184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Book Antiqua"/>
                </a:rPr>
                <a:t>UNCTIONS FOR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93680" y="4889520"/>
              <a:ext cx="502920" cy="78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ff0000"/>
                  </a:solidFill>
                  <a:latin typeface="Book Antiqua"/>
                </a:rPr>
                <a:t>S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20640" y="5016600"/>
              <a:ext cx="254808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Book Antiqua"/>
                </a:rPr>
                <a:t>  </a:t>
              </a:r>
              <a:r>
                <a:rPr b="1" lang="en-US" sz="3500" spc="-1" strike="noStrike">
                  <a:solidFill>
                    <a:srgbClr val="000000"/>
                  </a:solidFill>
                  <a:latin typeface="Book Antiqua"/>
                </a:rPr>
                <a:t>OFTWARE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4488840" y="1828800"/>
            <a:ext cx="4883760" cy="5028840"/>
            <a:chOff x="4488840" y="1828800"/>
            <a:chExt cx="4883760" cy="5028840"/>
          </a:xfrm>
        </p:grpSpPr>
        <p:sp>
          <p:nvSpPr>
            <p:cNvPr id="576" name=""/>
            <p:cNvSpPr/>
            <p:nvPr/>
          </p:nvSpPr>
          <p:spPr>
            <a:xfrm>
              <a:off x="4488840" y="1828800"/>
              <a:ext cx="3594960" cy="78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Book Antiqua"/>
                </a:rPr>
                <a:t>  </a:t>
              </a:r>
              <a:r>
                <a:rPr b="1" lang="en-US" sz="4600" spc="-1" strike="noStrike">
                  <a:solidFill>
                    <a:srgbClr val="ff0000"/>
                  </a:solidFill>
                  <a:latin typeface="Book Antiqua"/>
                </a:rPr>
                <a:t>S</a:t>
              </a:r>
              <a:r>
                <a:rPr b="1" lang="en-US" sz="3500" spc="-1" strike="noStrike">
                  <a:solidFill>
                    <a:srgbClr val="000000"/>
                  </a:solidFill>
                  <a:latin typeface="Book Antiqua"/>
                </a:rPr>
                <a:t>   TATISTICAL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588560" y="2489040"/>
              <a:ext cx="731520" cy="78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ff0000"/>
                  </a:solidFill>
                  <a:latin typeface="Book Antiqua"/>
                </a:rPr>
                <a:t>M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298480" y="2616120"/>
              <a:ext cx="345060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1" lang="en-US" sz="3500" spc="-1" strike="noStrike">
                  <a:solidFill>
                    <a:srgbClr val="000000"/>
                  </a:solidFill>
                  <a:latin typeface="Book Antiqua"/>
                </a:rPr>
                <a:t>ODELING AND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580640" y="3124080"/>
              <a:ext cx="812520" cy="78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ff0000"/>
                  </a:solidFill>
                  <a:latin typeface="Book Antiqua"/>
                </a:rPr>
                <a:t>E</a:t>
              </a:r>
              <a:r>
                <a:rPr b="1" lang="en-US" sz="4600" spc="-1" strike="noStrike">
                  <a:solidFill>
                    <a:srgbClr val="000000"/>
                  </a:solidFill>
                  <a:latin typeface="Book Antiqua"/>
                </a:rPr>
                <a:t>  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349240" y="3251160"/>
              <a:ext cx="344268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Book Antiqua"/>
                </a:rPr>
                <a:t>STIMATION OF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590000" y="3772080"/>
              <a:ext cx="567000" cy="78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ff0000"/>
                  </a:solidFill>
                  <a:latin typeface="Book Antiqua"/>
                </a:rPr>
                <a:t>R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089680" y="3898800"/>
              <a:ext cx="282708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Book Antiqua"/>
                </a:rPr>
                <a:t>  </a:t>
              </a:r>
              <a:r>
                <a:rPr b="1" lang="en-US" sz="3500" spc="-1" strike="noStrike">
                  <a:solidFill>
                    <a:srgbClr val="000000"/>
                  </a:solidFill>
                  <a:latin typeface="Book Antiqua"/>
                </a:rPr>
                <a:t>ELIABILITY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568040" y="4406760"/>
              <a:ext cx="806400" cy="78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ff0000"/>
                  </a:solidFill>
                  <a:latin typeface="Book Antiqua"/>
                </a:rPr>
                <a:t>F</a:t>
              </a:r>
              <a:r>
                <a:rPr b="1" lang="en-US" sz="4600" spc="-1" strike="noStrike">
                  <a:solidFill>
                    <a:srgbClr val="000000"/>
                  </a:solidFill>
                  <a:latin typeface="Book Antiqua"/>
                </a:rPr>
                <a:t>  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312880" y="4533840"/>
              <a:ext cx="356184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Book Antiqua"/>
                </a:rPr>
                <a:t>UNCTIONS FOR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589640" y="5041800"/>
              <a:ext cx="502920" cy="78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ff0000"/>
                  </a:solidFill>
                  <a:latin typeface="Book Antiqua"/>
                </a:rPr>
                <a:t>S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876920" y="5199120"/>
              <a:ext cx="4495680" cy="165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Book Antiqua"/>
                </a:rPr>
                <a:t>   </a:t>
              </a:r>
              <a:r>
                <a:rPr b="1" lang="en-US" sz="3500" spc="-1" strike="noStrike">
                  <a:solidFill>
                    <a:srgbClr val="000000"/>
                  </a:solidFill>
                  <a:latin typeface="Book Antiqua"/>
                </a:rPr>
                <a:t>YSTEMS^3       (</a:t>
              </a:r>
              <a:r>
                <a:rPr b="1" lang="en-US" sz="1700" spc="-1" strike="noStrike">
                  <a:solidFill>
                    <a:srgbClr val="3333cc"/>
                  </a:solidFill>
                  <a:latin typeface="Book Antiqua"/>
                </a:rPr>
                <a:t>H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ARDWARE, </a:t>
              </a:r>
              <a:r>
                <a:rPr b="1" lang="en-US" sz="1700" spc="-1" strike="noStrike">
                  <a:solidFill>
                    <a:srgbClr val="3333cc"/>
                  </a:solidFill>
                  <a:latin typeface="Book Antiqua"/>
                </a:rPr>
                <a:t>S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OFTWARE,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         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&amp; </a:t>
              </a:r>
              <a:r>
                <a:rPr b="1" lang="en-US" sz="1700" spc="-1" strike="noStrike">
                  <a:solidFill>
                    <a:srgbClr val="3333cc"/>
                  </a:solidFill>
                  <a:latin typeface="Book Antiqua"/>
                </a:rPr>
                <a:t>S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YSTEMS</a:t>
              </a:r>
              <a:r>
                <a:rPr b="1" lang="en-US" sz="3300" spc="-1" strike="noStrike">
                  <a:solidFill>
                    <a:srgbClr val="000000"/>
                  </a:solidFill>
                  <a:latin typeface="Book Antiqua"/>
                </a:rPr>
                <a:t>)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2743200" y="685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982 – 199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019920" y="685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996 – pres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BD129-16FF-434A-BDA4-6251132823B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565360" y="228600"/>
            <a:ext cx="6121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MERF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MERFS^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38080" y="2494080"/>
            <a:ext cx="2121120" cy="596880"/>
          </a:xfrm>
          <a:prstGeom prst="roundRect">
            <a:avLst>
              <a:gd name="adj" fmla="val 12495"/>
            </a:avLst>
          </a:prstGeom>
          <a:solidFill>
            <a:srgbClr val="fdfd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62120" y="2646360"/>
            <a:ext cx="2359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63de8"/>
                </a:solidFill>
                <a:latin typeface="Arial"/>
              </a:rPr>
              <a:t>Time between fail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527880" y="5518080"/>
            <a:ext cx="2120760" cy="596880"/>
          </a:xfrm>
          <a:prstGeom prst="roundRect">
            <a:avLst>
              <a:gd name="adj" fmla="val 12495"/>
            </a:avLst>
          </a:prstGeom>
          <a:solidFill>
            <a:srgbClr val="fdfd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527880" y="4603680"/>
            <a:ext cx="2120760" cy="596880"/>
          </a:xfrm>
          <a:prstGeom prst="roundRect">
            <a:avLst>
              <a:gd name="adj" fmla="val 12495"/>
            </a:avLst>
          </a:prstGeom>
          <a:solidFill>
            <a:srgbClr val="fdfd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527880" y="3765600"/>
            <a:ext cx="2120760" cy="596880"/>
          </a:xfrm>
          <a:prstGeom prst="roundRect">
            <a:avLst>
              <a:gd name="adj" fmla="val 12495"/>
            </a:avLst>
          </a:prstGeom>
          <a:solidFill>
            <a:srgbClr val="fdfd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527880" y="2927520"/>
            <a:ext cx="2120760" cy="596880"/>
          </a:xfrm>
          <a:prstGeom prst="roundRect">
            <a:avLst>
              <a:gd name="adj" fmla="val 12495"/>
            </a:avLst>
          </a:prstGeom>
          <a:solidFill>
            <a:srgbClr val="fdfd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527880" y="2089080"/>
            <a:ext cx="2120760" cy="596880"/>
          </a:xfrm>
          <a:prstGeom prst="roundRect">
            <a:avLst>
              <a:gd name="adj" fmla="val 12495"/>
            </a:avLst>
          </a:prstGeom>
          <a:solidFill>
            <a:srgbClr val="fdfd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408720" y="2209680"/>
            <a:ext cx="2359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63de8"/>
                </a:solidFill>
                <a:latin typeface="Arial"/>
              </a:rPr>
              <a:t>Mean time to fail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408720" y="3038400"/>
            <a:ext cx="2359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63de8"/>
                </a:solidFill>
                <a:latin typeface="Arial"/>
              </a:rPr>
              <a:t>Reli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332400" y="3800520"/>
            <a:ext cx="23590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63de8"/>
                </a:solidFill>
                <a:latin typeface="Arial"/>
              </a:rPr>
              <a:t>Number of errors remai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408720" y="4638600"/>
            <a:ext cx="235908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63de8"/>
                </a:solidFill>
                <a:latin typeface="Arial"/>
              </a:rPr>
              <a:t>Required time to meet specified reliability objecti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408720" y="5553000"/>
            <a:ext cx="235908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63de8"/>
                </a:solidFill>
                <a:latin typeface="Arial"/>
              </a:rPr>
              <a:t>Number of failures expected in a specified time peri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36560" y="4527720"/>
            <a:ext cx="2121120" cy="596880"/>
          </a:xfrm>
          <a:prstGeom prst="roundRect">
            <a:avLst>
              <a:gd name="adj" fmla="val 12495"/>
            </a:avLst>
          </a:prstGeom>
          <a:solidFill>
            <a:srgbClr val="fdfd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17400" y="4562640"/>
            <a:ext cx="23590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63de8"/>
                </a:solidFill>
                <a:latin typeface="Arial"/>
              </a:rPr>
              <a:t>Number of failures per unit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1758960" y="4282560"/>
            <a:ext cx="1434960" cy="24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5492880" y="2377800"/>
            <a:ext cx="1020600" cy="138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5492880" y="3198960"/>
            <a:ext cx="1020600" cy="71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492880" y="4219560"/>
            <a:ext cx="1030320" cy="68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492880" y="4371840"/>
            <a:ext cx="1020600" cy="13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25960" y="1647720"/>
            <a:ext cx="2463480" cy="50547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200400" y="1617840"/>
            <a:ext cx="237168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7360" indent="-117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MER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7360" indent="-11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ime 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7360" indent="-117360">
              <a:lnSpc>
                <a:spcPct val="100000"/>
              </a:lnSpc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63de8"/>
                </a:solidFill>
                <a:latin typeface="Arial"/>
              </a:rPr>
              <a:t>Littlewood &amp; Verrall Bayesian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7360" indent="-117360">
              <a:lnSpc>
                <a:spcPct val="100000"/>
              </a:lnSpc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63de8"/>
                </a:solidFill>
                <a:latin typeface="Arial"/>
              </a:rPr>
              <a:t>Musa Basic Execution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7360" indent="-117360">
              <a:lnSpc>
                <a:spcPct val="100000"/>
              </a:lnSpc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63de8"/>
                </a:solidFill>
                <a:latin typeface="Arial"/>
              </a:rPr>
              <a:t>Geometric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7360" indent="-117360">
              <a:lnSpc>
                <a:spcPct val="100000"/>
              </a:lnSpc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63de8"/>
                </a:solidFill>
                <a:latin typeface="Arial"/>
              </a:rPr>
              <a:t>Non-homogeneous Poisson Process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7360" indent="-117360">
              <a:lnSpc>
                <a:spcPct val="100000"/>
              </a:lnSpc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63de8"/>
                </a:solidFill>
                <a:latin typeface="Arial"/>
              </a:rPr>
              <a:t>Musa Logarithmic Poisson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7360" indent="-117360">
              <a:lnSpc>
                <a:spcPct val="100000"/>
              </a:lnSpc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63de8"/>
                </a:solidFill>
                <a:latin typeface="Arial"/>
              </a:rPr>
              <a:t>Jelinski-Moranda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7360" indent="-11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rror Count  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7360" indent="-117360">
              <a:lnSpc>
                <a:spcPct val="100000"/>
              </a:lnSpc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63de8"/>
                </a:solidFill>
                <a:latin typeface="Arial"/>
              </a:rPr>
              <a:t>Generalized Poisson Process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7360" indent="-117360">
              <a:lnSpc>
                <a:spcPct val="100000"/>
              </a:lnSpc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63de8"/>
                </a:solidFill>
                <a:latin typeface="Arial"/>
              </a:rPr>
              <a:t>Non-homogeneous Poisson Process Model for Cou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7360" indent="-117360">
              <a:lnSpc>
                <a:spcPct val="100000"/>
              </a:lnSpc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63de8"/>
                </a:solidFill>
                <a:latin typeface="Arial"/>
              </a:rPr>
              <a:t>Brooks and Motley’s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7360" indent="-117360">
              <a:lnSpc>
                <a:spcPct val="100000"/>
              </a:lnSpc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63de8"/>
                </a:solidFill>
                <a:latin typeface="Arial"/>
              </a:rPr>
              <a:t>Schneidewind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7360" indent="-117360">
              <a:lnSpc>
                <a:spcPct val="100000"/>
              </a:lnSpc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63de8"/>
                </a:solidFill>
                <a:latin typeface="Arial"/>
              </a:rPr>
              <a:t>S-shaped Reliability Growth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7360" indent="-117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MERFS^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7360" indent="-11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oftware 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7360" indent="-11736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All of the abo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7360" indent="-11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Hardware 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7360" indent="-117360">
              <a:lnSpc>
                <a:spcPct val="100000"/>
              </a:lnSpc>
              <a:buClr>
                <a:srgbClr val="fd33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d33ea"/>
                </a:solidFill>
                <a:latin typeface="Arial"/>
              </a:rPr>
              <a:t>Weibu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7360" indent="-117360">
              <a:lnSpc>
                <a:spcPct val="100000"/>
              </a:lnSpc>
              <a:buClr>
                <a:srgbClr val="fd33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d33ea"/>
                </a:solidFill>
                <a:latin typeface="Arial"/>
              </a:rPr>
              <a:t>Expon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7360" indent="-117360">
              <a:lnSpc>
                <a:spcPct val="100000"/>
              </a:lnSpc>
              <a:buClr>
                <a:srgbClr val="fd33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d33ea"/>
                </a:solidFill>
                <a:latin typeface="Arial"/>
              </a:rPr>
              <a:t>Rayleigh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7360" indent="-117360">
              <a:lnSpc>
                <a:spcPct val="100000"/>
              </a:lnSpc>
              <a:buClr>
                <a:srgbClr val="fd33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d33ea"/>
                </a:solidFill>
                <a:latin typeface="Arial"/>
              </a:rPr>
              <a:t>4 Army Models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7360" indent="-11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ystem 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7360" indent="-117360">
              <a:lnSpc>
                <a:spcPct val="100000"/>
              </a:lnSpc>
              <a:buClr>
                <a:srgbClr val="fd33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d33ea"/>
                </a:solidFill>
                <a:latin typeface="Arial"/>
              </a:rPr>
              <a:t>Markov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7360" indent="-117360">
              <a:lnSpc>
                <a:spcPct val="100000"/>
              </a:lnSpc>
              <a:buClr>
                <a:srgbClr val="fd33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d33ea"/>
                </a:solidFill>
                <a:latin typeface="Arial"/>
              </a:rPr>
              <a:t>Hyper-exponential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7360" indent="-117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828800" y="3103560"/>
            <a:ext cx="1371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71500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095880" y="63244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33ea"/>
                </a:solidFill>
                <a:latin typeface="Times New Roman"/>
              </a:rPr>
              <a:t>* Not Implem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0975D-B7D0-4B77-A3DF-76B3EB6EBB5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362320" y="228600"/>
            <a:ext cx="6121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MERFS^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95400" y="1295280"/>
            <a:ext cx="9048600" cy="53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 PC WINDOWS ENVIRONMENT (WINDOWS, 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ORPORATES HARDWARE, SOFTWARE, AND SYSTEM’S RELIABILITY ( SOFTWARE + HARDWA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PTURES ALL OF THE FUNCTIONALITY OF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MER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UI INTERFACE - (VISUAL C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BRARY IN FORTRAN 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RDWARE MODELS: EXPONENTIAL, RAYLEIGH, WEIBULL, CONTINUOUS AND DISCRETE RELIABILITY GROWTH PROJECTION MODELS, AND THE CONTINUOS AND DISCRETE RELIABILITY TRACKING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STEM MODELS: HYPEREXPONENTIAL AND MARKOV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ORPORATED INTO ARMY’S </a:t>
            </a:r>
            <a:r>
              <a:rPr b="1" lang="en-US" sz="2400" spc="-1" strike="noStrike">
                <a:solidFill>
                  <a:srgbClr val="4a0fdf"/>
                </a:solidFill>
                <a:latin typeface="Times New Roman"/>
              </a:rPr>
              <a:t>INSIGH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C3F73-7208-4DF2-9A0C-A18118E27D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MERFS^3 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62120" y="1523880"/>
            <a:ext cx="7391160" cy="50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4a0fd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 INP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CI FILE of TBF or FAULT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4a0fd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OTS (Raw, Fitted, Residual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4a0fd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 ED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4a0fd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T CONVERSION (Time – seconds, minutes, hour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4a0fd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 TRANSFORM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4a0fd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4a0fd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L FI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l Applicability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l Fi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de-off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B58E2-D82A-4F15-865F-0633F459DAD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37920" y="30492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&amp; Future Eff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st year we had an initiative to incorporat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MERFS^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to the Army’s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sigh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ol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nsigh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s a tool developed by the Army’s Software Metrics Office that helps the user tailor and implement the issue-driven software and systems measurement process as defined in the DOD’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ractical Software and Systems Measurement (PSM) Guid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t Propulsion Laboratory (JPL), Naval Postgraduate School (NPS), and the Air Force Operational Test and Evaluation Center (AFOT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velop a new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MERFS^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ncorporating software, hardware, and systems as well as integrating in JPL’s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CASR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t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ditional features will include: early reliability prediction and new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rrently seeking funding and developing a series of papers/presentations showing the benefits of reliability assess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C8EEE-688A-4AD1-BECB-8138871555B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438280" y="3808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TO OBTAIN COP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tact m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Phone: (540) 653-838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Email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farrwh@nswc.navy.m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dicate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SMERF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SMERFS^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lected copy will be emailed as a zipped f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AF068-EE73-41A3-B84D-1AE9FBF6B33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47280" y="2704680"/>
            <a:ext cx="796284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MERFS^3 SAMPLE DATA ANALYS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92468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7445-A305-4DFD-A043-71DA55E60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868760" cy="84456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0" y="6553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/14/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F0787-005C-46C9-8FCC-8AB2772DE3D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514240" y="38052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LE INPUT FORMAT (TB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819520" y="1371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IME BETWEEN FAIL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61800" y="1289160"/>
            <a:ext cx="8420400" cy="57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oftw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apsed Time; “0” to denote software, a severity level of the failu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-4 levels)</a:t>
            </a:r>
            <a:r>
              <a:rPr b="0" lang="en-US" sz="2400" spc="-1" strike="noStrike">
                <a:solidFill>
                  <a:srgbClr val="fd33ea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3   0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7   0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5 0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y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apsed Time; “0” to denote software, “1” to denote hardware; a severity level of the failure (1-4 levels)</a:t>
            </a:r>
            <a:r>
              <a:rPr b="0" lang="en-US" sz="2400" spc="-1" strike="noStrike">
                <a:solidFill>
                  <a:srgbClr val="fd33ea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3  0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7  1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7  0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9  1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5  0 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d33ea"/>
                </a:solidFill>
                <a:latin typeface="Times New Roman"/>
              </a:rPr>
              <a:t>* Currently not activa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.2  0 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65739-F1D6-4035-AD85-626FD17DCB8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514240" y="15192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LE INPUT FORMAT (INTERV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438280" y="144792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ftware Interval (Count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28600" y="1905120"/>
            <a:ext cx="8229600" cy="34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oftw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ult Count ; Interval Length (usually normalized to 1 – 1 day, 1-month, etc);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  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 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6D0BF-673E-41C4-B101-7B700E4396E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 of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Software Reliability Mode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story of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SMERFS^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mple data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Plotting and transfor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ing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SMERFS^3 for tradeoff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AF7D7-10A0-43C9-8F78-1F86357102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5943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File  (soft_i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819520" y="2362320"/>
            <a:ext cx="2819160" cy="2286000"/>
          </a:xfrm>
          <a:custGeom>
            <a:avLst/>
            <a:gdLst>
              <a:gd name="textAreaLeft" fmla="*/ 147960 w 2819160"/>
              <a:gd name="textAreaRight" fmla="*/ 2671200 w 281916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6637" h="21600">
                <a:moveTo>
                  <a:pt x="0" y="0"/>
                </a:moveTo>
                <a:lnTo>
                  <a:pt x="26637" y="0"/>
                </a:lnTo>
                <a:lnTo>
                  <a:pt x="26637" y="21600"/>
                </a:lnTo>
                <a:lnTo>
                  <a:pt x="0" y="21600"/>
                </a:lnTo>
                <a:close/>
              </a:path>
              <a:path fill="lightenLess" w="26637" h="21600">
                <a:moveTo>
                  <a:pt x="0" y="0"/>
                </a:moveTo>
                <a:lnTo>
                  <a:pt x="26637" y="0"/>
                </a:lnTo>
                <a:lnTo>
                  <a:pt x="25237" y="1400"/>
                </a:lnTo>
                <a:lnTo>
                  <a:pt x="1400" y="1400"/>
                </a:lnTo>
                <a:close/>
              </a:path>
              <a:path fill="darken" w="26637" h="21600">
                <a:moveTo>
                  <a:pt x="26637" y="0"/>
                </a:moveTo>
                <a:lnTo>
                  <a:pt x="26637" y="21600"/>
                </a:lnTo>
                <a:lnTo>
                  <a:pt x="25237" y="20200"/>
                </a:lnTo>
                <a:lnTo>
                  <a:pt x="25237" y="1400"/>
                </a:lnTo>
                <a:close/>
              </a:path>
              <a:path fill="darkenLess" w="26637" h="21600">
                <a:moveTo>
                  <a:pt x="26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37" y="20200"/>
                </a:lnTo>
                <a:close/>
              </a:path>
              <a:path fill="lighten" w="26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637" h="21600">
                <a:moveTo>
                  <a:pt x="7792" y="3985"/>
                </a:moveTo>
                <a:lnTo>
                  <a:pt x="14789" y="3985"/>
                </a:lnTo>
                <a:lnTo>
                  <a:pt x="18845" y="7484"/>
                </a:lnTo>
                <a:lnTo>
                  <a:pt x="18845" y="17615"/>
                </a:lnTo>
                <a:lnTo>
                  <a:pt x="7792" y="17615"/>
                </a:lnTo>
                <a:close/>
              </a:path>
              <a:path fill="darken" w="26637" h="21600">
                <a:moveTo>
                  <a:pt x="14789" y="3985"/>
                </a:moveTo>
                <a:lnTo>
                  <a:pt x="18845" y="7484"/>
                </a:lnTo>
                <a:lnTo>
                  <a:pt x="14789" y="748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124080" y="2743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657600" y="33526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oft_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B9D70-AE22-4CBF-9275-DD4E10E6808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590920" y="3805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MERFS^3 EXEC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>
            <a:hlinkClick r:id="rId1"/>
          </p:cNvPr>
          <p:cNvSpPr/>
          <p:nvPr/>
        </p:nvSpPr>
        <p:spPr>
          <a:xfrm>
            <a:off x="3505320" y="2362320"/>
            <a:ext cx="2438280" cy="2590560"/>
          </a:xfrm>
          <a:custGeom>
            <a:avLst/>
            <a:gdLst>
              <a:gd name="textAreaLeft" fmla="*/ 158040 w 2438280"/>
              <a:gd name="textAreaRight" fmla="*/ 2280240 w 2438280"/>
              <a:gd name="textAreaTop" fmla="*/ 158040 h 2590560"/>
              <a:gd name="textAreaBottom" fmla="*/ 2432520 h 2590560"/>
            </a:gdLst>
            <a:ahLst/>
            <a:rect l="textAreaLeft" t="textAreaTop" r="textAreaRight" b="textAreaBottom"/>
            <a:pathLst>
              <a:path w="21600" h="22949">
                <a:moveTo>
                  <a:pt x="0" y="0"/>
                </a:moveTo>
                <a:lnTo>
                  <a:pt x="21600" y="0"/>
                </a:lnTo>
                <a:lnTo>
                  <a:pt x="21600" y="22949"/>
                </a:lnTo>
                <a:lnTo>
                  <a:pt x="0" y="22949"/>
                </a:lnTo>
                <a:close/>
              </a:path>
              <a:path fill="lightenLess" w="21600" h="229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49">
                <a:moveTo>
                  <a:pt x="21600" y="0"/>
                </a:moveTo>
                <a:lnTo>
                  <a:pt x="21600" y="22949"/>
                </a:lnTo>
                <a:lnTo>
                  <a:pt x="20200" y="21549"/>
                </a:lnTo>
                <a:lnTo>
                  <a:pt x="20200" y="1400"/>
                </a:lnTo>
                <a:close/>
              </a:path>
              <a:path fill="darkenLess" w="21600" h="22949">
                <a:moveTo>
                  <a:pt x="21600" y="22949"/>
                </a:moveTo>
                <a:lnTo>
                  <a:pt x="0" y="22949"/>
                </a:lnTo>
                <a:lnTo>
                  <a:pt x="1400" y="21549"/>
                </a:lnTo>
                <a:lnTo>
                  <a:pt x="20200" y="21549"/>
                </a:lnTo>
                <a:close/>
              </a:path>
              <a:path fill="lighten" w="21600" h="22949">
                <a:moveTo>
                  <a:pt x="0" y="2294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49"/>
                </a:lnTo>
                <a:close/>
              </a:path>
              <a:path fill="darkenLess" w="21600" h="22949">
                <a:moveTo>
                  <a:pt x="5273" y="4659"/>
                </a:moveTo>
                <a:lnTo>
                  <a:pt x="12271" y="4659"/>
                </a:lnTo>
                <a:lnTo>
                  <a:pt x="16327" y="8158"/>
                </a:lnTo>
                <a:lnTo>
                  <a:pt x="16327" y="18289"/>
                </a:lnTo>
                <a:lnTo>
                  <a:pt x="5273" y="18289"/>
                </a:lnTo>
                <a:close/>
              </a:path>
              <a:path fill="darken" w="21600" h="22949">
                <a:moveTo>
                  <a:pt x="12271" y="4659"/>
                </a:moveTo>
                <a:lnTo>
                  <a:pt x="16327" y="8158"/>
                </a:lnTo>
                <a:lnTo>
                  <a:pt x="12271" y="815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191120" y="35053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MERFS^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D4A5A-5BA3-4053-BBD9-B96F14BCC71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590920" y="380880"/>
            <a:ext cx="5867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utput From SMERFS^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models1." descr=""/>
          <p:cNvPicPr/>
          <p:nvPr/>
        </p:nvPicPr>
        <p:blipFill>
          <a:blip r:embed="rId1"/>
          <a:stretch/>
        </p:blipFill>
        <p:spPr>
          <a:xfrm>
            <a:off x="2117880" y="1447920"/>
            <a:ext cx="5047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DD48D-CE1D-476A-BD0E-56DF2BF47E1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5943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File  (soft_tb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819520" y="2362320"/>
            <a:ext cx="2819160" cy="2286000"/>
          </a:xfrm>
          <a:custGeom>
            <a:avLst/>
            <a:gdLst>
              <a:gd name="textAreaLeft" fmla="*/ 147960 w 2819160"/>
              <a:gd name="textAreaRight" fmla="*/ 2671200 w 281916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6637" h="21600">
                <a:moveTo>
                  <a:pt x="0" y="0"/>
                </a:moveTo>
                <a:lnTo>
                  <a:pt x="26637" y="0"/>
                </a:lnTo>
                <a:lnTo>
                  <a:pt x="26637" y="21600"/>
                </a:lnTo>
                <a:lnTo>
                  <a:pt x="0" y="21600"/>
                </a:lnTo>
                <a:close/>
              </a:path>
              <a:path fill="lightenLess" w="26637" h="21600">
                <a:moveTo>
                  <a:pt x="0" y="0"/>
                </a:moveTo>
                <a:lnTo>
                  <a:pt x="26637" y="0"/>
                </a:lnTo>
                <a:lnTo>
                  <a:pt x="25237" y="1400"/>
                </a:lnTo>
                <a:lnTo>
                  <a:pt x="1400" y="1400"/>
                </a:lnTo>
                <a:close/>
              </a:path>
              <a:path fill="darken" w="26637" h="21600">
                <a:moveTo>
                  <a:pt x="26637" y="0"/>
                </a:moveTo>
                <a:lnTo>
                  <a:pt x="26637" y="21600"/>
                </a:lnTo>
                <a:lnTo>
                  <a:pt x="25237" y="20200"/>
                </a:lnTo>
                <a:lnTo>
                  <a:pt x="25237" y="1400"/>
                </a:lnTo>
                <a:close/>
              </a:path>
              <a:path fill="darkenLess" w="26637" h="21600">
                <a:moveTo>
                  <a:pt x="26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37" y="20200"/>
                </a:lnTo>
                <a:close/>
              </a:path>
              <a:path fill="lighten" w="26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637" h="21600">
                <a:moveTo>
                  <a:pt x="7792" y="3985"/>
                </a:moveTo>
                <a:lnTo>
                  <a:pt x="14789" y="3985"/>
                </a:lnTo>
                <a:lnTo>
                  <a:pt x="18845" y="7484"/>
                </a:lnTo>
                <a:lnTo>
                  <a:pt x="18845" y="17615"/>
                </a:lnTo>
                <a:lnTo>
                  <a:pt x="7792" y="17615"/>
                </a:lnTo>
                <a:close/>
              </a:path>
              <a:path fill="darken" w="26637" h="21600">
                <a:moveTo>
                  <a:pt x="14789" y="3985"/>
                </a:moveTo>
                <a:lnTo>
                  <a:pt x="18845" y="7484"/>
                </a:lnTo>
                <a:lnTo>
                  <a:pt x="14789" y="748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124080" y="2743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657600" y="33526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oft_tb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DF443-FC5B-4BB2-B06A-31CF3CB1355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590920" y="3805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MERFS^3 EXEC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>
            <a:hlinkClick r:id="rId1"/>
          </p:cNvPr>
          <p:cNvSpPr/>
          <p:nvPr/>
        </p:nvSpPr>
        <p:spPr>
          <a:xfrm>
            <a:off x="3505320" y="2362320"/>
            <a:ext cx="2438280" cy="2590560"/>
          </a:xfrm>
          <a:custGeom>
            <a:avLst/>
            <a:gdLst>
              <a:gd name="textAreaLeft" fmla="*/ 158040 w 2438280"/>
              <a:gd name="textAreaRight" fmla="*/ 2280240 w 2438280"/>
              <a:gd name="textAreaTop" fmla="*/ 158040 h 2590560"/>
              <a:gd name="textAreaBottom" fmla="*/ 2432520 h 2590560"/>
            </a:gdLst>
            <a:ahLst/>
            <a:rect l="textAreaLeft" t="textAreaTop" r="textAreaRight" b="textAreaBottom"/>
            <a:pathLst>
              <a:path w="21600" h="22949">
                <a:moveTo>
                  <a:pt x="0" y="0"/>
                </a:moveTo>
                <a:lnTo>
                  <a:pt x="21600" y="0"/>
                </a:lnTo>
                <a:lnTo>
                  <a:pt x="21600" y="22949"/>
                </a:lnTo>
                <a:lnTo>
                  <a:pt x="0" y="22949"/>
                </a:lnTo>
                <a:close/>
              </a:path>
              <a:path fill="lightenLess" w="21600" h="229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49">
                <a:moveTo>
                  <a:pt x="21600" y="0"/>
                </a:moveTo>
                <a:lnTo>
                  <a:pt x="21600" y="22949"/>
                </a:lnTo>
                <a:lnTo>
                  <a:pt x="20200" y="21549"/>
                </a:lnTo>
                <a:lnTo>
                  <a:pt x="20200" y="1400"/>
                </a:lnTo>
                <a:close/>
              </a:path>
              <a:path fill="darkenLess" w="21600" h="22949">
                <a:moveTo>
                  <a:pt x="21600" y="22949"/>
                </a:moveTo>
                <a:lnTo>
                  <a:pt x="0" y="22949"/>
                </a:lnTo>
                <a:lnTo>
                  <a:pt x="1400" y="21549"/>
                </a:lnTo>
                <a:lnTo>
                  <a:pt x="20200" y="21549"/>
                </a:lnTo>
                <a:close/>
              </a:path>
              <a:path fill="lighten" w="21600" h="22949">
                <a:moveTo>
                  <a:pt x="0" y="2294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49"/>
                </a:lnTo>
                <a:close/>
              </a:path>
              <a:path fill="darkenLess" w="21600" h="22949">
                <a:moveTo>
                  <a:pt x="5273" y="4659"/>
                </a:moveTo>
                <a:lnTo>
                  <a:pt x="12271" y="4659"/>
                </a:lnTo>
                <a:lnTo>
                  <a:pt x="16327" y="8158"/>
                </a:lnTo>
                <a:lnTo>
                  <a:pt x="16327" y="18289"/>
                </a:lnTo>
                <a:lnTo>
                  <a:pt x="5273" y="18289"/>
                </a:lnTo>
                <a:close/>
              </a:path>
              <a:path fill="darken" w="21600" h="22949">
                <a:moveTo>
                  <a:pt x="12271" y="4659"/>
                </a:moveTo>
                <a:lnTo>
                  <a:pt x="16327" y="8158"/>
                </a:lnTo>
                <a:lnTo>
                  <a:pt x="12271" y="815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191120" y="35053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MERFS^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77BA9-AB44-45FA-ADD4-670BDA4742C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5943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Keyboard IN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>
            <a:hlinkClick r:id="rId1"/>
          </p:cNvPr>
          <p:cNvSpPr/>
          <p:nvPr/>
        </p:nvSpPr>
        <p:spPr>
          <a:xfrm>
            <a:off x="2819520" y="2362320"/>
            <a:ext cx="2819160" cy="2286000"/>
          </a:xfrm>
          <a:custGeom>
            <a:avLst/>
            <a:gdLst>
              <a:gd name="textAreaLeft" fmla="*/ 147960 w 2819160"/>
              <a:gd name="textAreaRight" fmla="*/ 2671200 w 281916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6637" h="21600">
                <a:moveTo>
                  <a:pt x="0" y="0"/>
                </a:moveTo>
                <a:lnTo>
                  <a:pt x="26637" y="0"/>
                </a:lnTo>
                <a:lnTo>
                  <a:pt x="26637" y="21600"/>
                </a:lnTo>
                <a:lnTo>
                  <a:pt x="0" y="21600"/>
                </a:lnTo>
                <a:close/>
              </a:path>
              <a:path fill="lightenLess" w="26637" h="21600">
                <a:moveTo>
                  <a:pt x="0" y="0"/>
                </a:moveTo>
                <a:lnTo>
                  <a:pt x="26637" y="0"/>
                </a:lnTo>
                <a:lnTo>
                  <a:pt x="25237" y="1400"/>
                </a:lnTo>
                <a:lnTo>
                  <a:pt x="1400" y="1400"/>
                </a:lnTo>
                <a:close/>
              </a:path>
              <a:path fill="darken" w="26637" h="21600">
                <a:moveTo>
                  <a:pt x="26637" y="0"/>
                </a:moveTo>
                <a:lnTo>
                  <a:pt x="26637" y="21600"/>
                </a:lnTo>
                <a:lnTo>
                  <a:pt x="25237" y="20200"/>
                </a:lnTo>
                <a:lnTo>
                  <a:pt x="25237" y="1400"/>
                </a:lnTo>
                <a:close/>
              </a:path>
              <a:path fill="darkenLess" w="26637" h="21600">
                <a:moveTo>
                  <a:pt x="26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37" y="20200"/>
                </a:lnTo>
                <a:close/>
              </a:path>
              <a:path fill="lighten" w="26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637" h="21600">
                <a:moveTo>
                  <a:pt x="7792" y="3985"/>
                </a:moveTo>
                <a:lnTo>
                  <a:pt x="14789" y="3985"/>
                </a:lnTo>
                <a:lnTo>
                  <a:pt x="18845" y="7484"/>
                </a:lnTo>
                <a:lnTo>
                  <a:pt x="18845" y="17615"/>
                </a:lnTo>
                <a:lnTo>
                  <a:pt x="7792" y="17615"/>
                </a:lnTo>
                <a:close/>
              </a:path>
              <a:path fill="darken" w="26637" h="21600">
                <a:moveTo>
                  <a:pt x="14789" y="3985"/>
                </a:moveTo>
                <a:lnTo>
                  <a:pt x="18845" y="7484"/>
                </a:lnTo>
                <a:lnTo>
                  <a:pt x="14789" y="748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124080" y="2743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657600" y="34290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MERFS^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31BA8-7DC9-48CB-A46F-DFF764CCB24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5943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File  (system_tb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819520" y="2362320"/>
            <a:ext cx="2819160" cy="2286000"/>
          </a:xfrm>
          <a:custGeom>
            <a:avLst/>
            <a:gdLst>
              <a:gd name="textAreaLeft" fmla="*/ 147960 w 2819160"/>
              <a:gd name="textAreaRight" fmla="*/ 2671200 w 281916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6637" h="21600">
                <a:moveTo>
                  <a:pt x="0" y="0"/>
                </a:moveTo>
                <a:lnTo>
                  <a:pt x="26637" y="0"/>
                </a:lnTo>
                <a:lnTo>
                  <a:pt x="26637" y="21600"/>
                </a:lnTo>
                <a:lnTo>
                  <a:pt x="0" y="21600"/>
                </a:lnTo>
                <a:close/>
              </a:path>
              <a:path fill="lightenLess" w="26637" h="21600">
                <a:moveTo>
                  <a:pt x="0" y="0"/>
                </a:moveTo>
                <a:lnTo>
                  <a:pt x="26637" y="0"/>
                </a:lnTo>
                <a:lnTo>
                  <a:pt x="25237" y="1400"/>
                </a:lnTo>
                <a:lnTo>
                  <a:pt x="1400" y="1400"/>
                </a:lnTo>
                <a:close/>
              </a:path>
              <a:path fill="darken" w="26637" h="21600">
                <a:moveTo>
                  <a:pt x="26637" y="0"/>
                </a:moveTo>
                <a:lnTo>
                  <a:pt x="26637" y="21600"/>
                </a:lnTo>
                <a:lnTo>
                  <a:pt x="25237" y="20200"/>
                </a:lnTo>
                <a:lnTo>
                  <a:pt x="25237" y="1400"/>
                </a:lnTo>
                <a:close/>
              </a:path>
              <a:path fill="darkenLess" w="26637" h="21600">
                <a:moveTo>
                  <a:pt x="26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37" y="20200"/>
                </a:lnTo>
                <a:close/>
              </a:path>
              <a:path fill="lighten" w="26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637" h="21600">
                <a:moveTo>
                  <a:pt x="7792" y="3985"/>
                </a:moveTo>
                <a:lnTo>
                  <a:pt x="14789" y="3985"/>
                </a:lnTo>
                <a:lnTo>
                  <a:pt x="18845" y="7484"/>
                </a:lnTo>
                <a:lnTo>
                  <a:pt x="18845" y="17615"/>
                </a:lnTo>
                <a:lnTo>
                  <a:pt x="7792" y="17615"/>
                </a:lnTo>
                <a:close/>
              </a:path>
              <a:path fill="darken" w="26637" h="21600">
                <a:moveTo>
                  <a:pt x="14789" y="3985"/>
                </a:moveTo>
                <a:lnTo>
                  <a:pt x="18845" y="7484"/>
                </a:lnTo>
                <a:lnTo>
                  <a:pt x="14789" y="748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124080" y="2743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657600" y="34290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ystem_tb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02DB6-C6B8-47D2-BBD5-4ABA49BE1C7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0920" y="3805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MERFS^3 EXEC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>
            <a:hlinkClick r:id="rId1"/>
          </p:cNvPr>
          <p:cNvSpPr/>
          <p:nvPr/>
        </p:nvSpPr>
        <p:spPr>
          <a:xfrm>
            <a:off x="3505320" y="2362320"/>
            <a:ext cx="2438280" cy="2590560"/>
          </a:xfrm>
          <a:custGeom>
            <a:avLst/>
            <a:gdLst>
              <a:gd name="textAreaLeft" fmla="*/ 158040 w 2438280"/>
              <a:gd name="textAreaRight" fmla="*/ 2280240 w 2438280"/>
              <a:gd name="textAreaTop" fmla="*/ 158040 h 2590560"/>
              <a:gd name="textAreaBottom" fmla="*/ 2432520 h 2590560"/>
            </a:gdLst>
            <a:ahLst/>
            <a:rect l="textAreaLeft" t="textAreaTop" r="textAreaRight" b="textAreaBottom"/>
            <a:pathLst>
              <a:path w="21600" h="22949">
                <a:moveTo>
                  <a:pt x="0" y="0"/>
                </a:moveTo>
                <a:lnTo>
                  <a:pt x="21600" y="0"/>
                </a:lnTo>
                <a:lnTo>
                  <a:pt x="21600" y="22949"/>
                </a:lnTo>
                <a:lnTo>
                  <a:pt x="0" y="22949"/>
                </a:lnTo>
                <a:close/>
              </a:path>
              <a:path fill="lightenLess" w="21600" h="229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49">
                <a:moveTo>
                  <a:pt x="21600" y="0"/>
                </a:moveTo>
                <a:lnTo>
                  <a:pt x="21600" y="22949"/>
                </a:lnTo>
                <a:lnTo>
                  <a:pt x="20200" y="21549"/>
                </a:lnTo>
                <a:lnTo>
                  <a:pt x="20200" y="1400"/>
                </a:lnTo>
                <a:close/>
              </a:path>
              <a:path fill="darkenLess" w="21600" h="22949">
                <a:moveTo>
                  <a:pt x="21600" y="22949"/>
                </a:moveTo>
                <a:lnTo>
                  <a:pt x="0" y="22949"/>
                </a:lnTo>
                <a:lnTo>
                  <a:pt x="1400" y="21549"/>
                </a:lnTo>
                <a:lnTo>
                  <a:pt x="20200" y="21549"/>
                </a:lnTo>
                <a:close/>
              </a:path>
              <a:path fill="lighten" w="21600" h="22949">
                <a:moveTo>
                  <a:pt x="0" y="2294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49"/>
                </a:lnTo>
                <a:close/>
              </a:path>
              <a:path fill="darkenLess" w="21600" h="22949">
                <a:moveTo>
                  <a:pt x="5273" y="4659"/>
                </a:moveTo>
                <a:lnTo>
                  <a:pt x="12271" y="4659"/>
                </a:lnTo>
                <a:lnTo>
                  <a:pt x="16327" y="8158"/>
                </a:lnTo>
                <a:lnTo>
                  <a:pt x="16327" y="18289"/>
                </a:lnTo>
                <a:lnTo>
                  <a:pt x="5273" y="18289"/>
                </a:lnTo>
                <a:close/>
              </a:path>
              <a:path fill="darken" w="21600" h="22949">
                <a:moveTo>
                  <a:pt x="12271" y="4659"/>
                </a:moveTo>
                <a:lnTo>
                  <a:pt x="16327" y="8158"/>
                </a:lnTo>
                <a:lnTo>
                  <a:pt x="12271" y="815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191120" y="35053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MERFS^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86D21-3602-4F6D-8328-E54519A9919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6019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80880" y="1676520"/>
            <a:ext cx="85345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lete the Prototype Development of SMERF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10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inish</a:t>
            </a:r>
            <a:r>
              <a:rPr b="0" lang="en-US" sz="2800" spc="-1" strike="noStrike">
                <a:solidFill>
                  <a:srgbClr val="00ae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GUI Interface in 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10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inish Hardware Model Coding and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10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ormulate and Implement Systems Reli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10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evelop Supporting User’s Gui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10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istribute It Via Web, INCOSE, Mail 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10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pply It to a Major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10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eek Commercial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90E24-AD21-4FE7-84E1-5F8186E333D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son’s Lear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43080" y="1523520"/>
            <a:ext cx="8572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ust keep in mind your environment that your trying to make an assessment of.  The data collected for your assessment must be reflective of that enviro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in mind your objectives.  That will help determine what data to collect and at what le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feedback to those involved in the collection process on the results of the assess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reliability models provide one perspective on reliability but there are other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A5223-38D5-42F3-B216-D1006AB8193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7640" y="270504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 of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oftware Reliability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92468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8172-CCB0-47D9-9162-D354C3A0F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868760" cy="844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6553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/14/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8E4D7-4D1E-4644-90BD-9F3B0C963A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19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son’s Learned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85840" y="1523520"/>
            <a:ext cx="8572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ur environment the models based upon counts did just as well as the ones based upon “time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one must agree on what constitutes a software fault and from where it may arise.   Also, if your considering “severity” of a fault, a set of accepted definitions must be establis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count data is used you must capture the usage and/or effort involved using the software during the time intervals of interest.  If wall clock tbf data is used you also must be aware of the eff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5E57D-6F46-4FAD-95A5-A2C29A01D87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0920" y="151920"/>
            <a:ext cx="586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’s and Don'ts of Software Reliability Lessons Lear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Do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ider it as a quantitative measure to be used in determination of software qua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ck reliability over time and/or software version to determine whether reengineering is nee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ider it as an important aid in determining resource allocation and in the testing/maintenance effor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 specific objectives for a software reliability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 an automated data collection process and datab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Don’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ider one software reliability model is applicable for all situ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trapolate results beyond the environment in which the data is gener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y it before integrated testing in the life cy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ider it as the sole data point upon which to make judg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23392-AAD9-4DCE-B685-1488A3BDD0B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437920" y="304920"/>
            <a:ext cx="58676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RE IS A NEED TO QUANTIFY BOTH COMPONENT (HARDWARE &amp; SOFTWARE) AND SYSTEM’S  RELI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TOTAL SYSTEM’S RELIABILITY THE HUMAN FACTOR MUST BE WORKED INTO THE FRAMEWOR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IABILITY NEEDS TO BE CONSIDERED OVER THE ENTIRE LIFECYCLE OF TH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IABILITY ANALYSIS CAN PROVIDE USEFUL INFORMATION TO ASSESS BOTH THE PRODUCT AND THE ORGANIZATION’S DEVELOPMENT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N MAKING AN OVERALL PRODUCT ASSESSMENT, CONSIDER RELIABILITY MODELING AS PROVIDING ONE PERSPECTIVE - OTHERS NEED TO BE CONSIDERED AS 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D17F5-0037-48E9-B9C2-E48552D90B10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47280" y="2704680"/>
            <a:ext cx="796284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92468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A39A-84DD-4DDC-BCFE-1459E0F76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868760" cy="84456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0" y="6553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/14/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BC1A3-84C0-4405-9B0A-07D11051318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47280" y="2704680"/>
            <a:ext cx="796284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92468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B155-A705-48DE-BE72-C8419A4DA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868760" cy="84456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/>
          <p:nvPr/>
        </p:nvSpPr>
        <p:spPr>
          <a:xfrm>
            <a:off x="0" y="6553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/14/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E66CB-8246-4C06-9685-88597F03985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514600" y="304920"/>
            <a:ext cx="601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ftware Reliability Enginee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y John Musa, McGraw-Hill, 199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ftware Reliability Measurement, Prediction, Appli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y J. Musa, A. Iannino, and K. Okumoto, McGraw-Hill, 199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ftware Reliability Model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y M. Xie, World Scientific, 199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ndbook of Software Reliability Enginee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dited by Michael Lyu, McGraw-Hill, 199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ommended Practice for Software Reli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SI/AIAA, R-013-1992, ISBN 1-56347-024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er For Software Relability -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csr.city.ac.u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s to Others -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members.aol.com/JohnDMusa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http://www.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dacs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dtic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7"/>
              </a:rPr>
              <a:t>.mi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735BC-F02C-42F8-85A0-8A284CB9D71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0962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IVES OF SOFTWARE RELIABILITY MOD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TITATIVE ASSESSMENT OF RELI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CATION OF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MENT OF TESTING EFF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RELIABILITY IN DIFFERENT ENVIRO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CK RELIABILITY OVE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2FEC0-CABC-41EF-986D-FB866672464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QUESTIONS ADDRESSED BY 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OFTWARE RELIABILITY MODEL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34280" y="3780000"/>
            <a:ext cx="2241360" cy="2849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34280" y="3780000"/>
            <a:ext cx="2255760" cy="2863800"/>
          </a:xfrm>
          <a:custGeom>
            <a:avLst/>
            <a:gdLst/>
            <a:ahLst/>
            <a:rect l="l" t="t" r="r" b="b"/>
            <a:pathLst>
              <a:path w="1421" h="1804">
                <a:moveTo>
                  <a:pt x="0" y="0"/>
                </a:moveTo>
                <a:lnTo>
                  <a:pt x="1420" y="0"/>
                </a:lnTo>
                <a:lnTo>
                  <a:pt x="1420" y="1803"/>
                </a:lnTo>
                <a:lnTo>
                  <a:pt x="0" y="18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215120" y="4079880"/>
            <a:ext cx="574920" cy="766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15120" y="4079880"/>
            <a:ext cx="588960" cy="781200"/>
          </a:xfrm>
          <a:custGeom>
            <a:avLst/>
            <a:gdLst/>
            <a:ahLst/>
            <a:rect l="l" t="t" r="r" b="b"/>
            <a:pathLst>
              <a:path w="371" h="492">
                <a:moveTo>
                  <a:pt x="0" y="0"/>
                </a:moveTo>
                <a:lnTo>
                  <a:pt x="370" y="0"/>
                </a:lnTo>
                <a:lnTo>
                  <a:pt x="370" y="491"/>
                </a:lnTo>
                <a:lnTo>
                  <a:pt x="0" y="49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69240" y="4870440"/>
            <a:ext cx="1130040" cy="1246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969240" y="4870440"/>
            <a:ext cx="1144440" cy="1260360"/>
          </a:xfrm>
          <a:custGeom>
            <a:avLst/>
            <a:gdLst/>
            <a:ahLst/>
            <a:rect l="l" t="t" r="r" b="b"/>
            <a:pathLst>
              <a:path w="721" h="794">
                <a:moveTo>
                  <a:pt x="0" y="0"/>
                </a:moveTo>
                <a:lnTo>
                  <a:pt x="720" y="0"/>
                </a:lnTo>
                <a:lnTo>
                  <a:pt x="720" y="793"/>
                </a:lnTo>
                <a:lnTo>
                  <a:pt x="0" y="79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123400" y="4870440"/>
            <a:ext cx="488880" cy="2746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123400" y="4870440"/>
            <a:ext cx="502920" cy="289080"/>
          </a:xfrm>
          <a:custGeom>
            <a:avLst/>
            <a:gdLst/>
            <a:ahLst/>
            <a:rect l="l" t="t" r="r" b="b"/>
            <a:pathLst>
              <a:path w="317" h="182">
                <a:moveTo>
                  <a:pt x="0" y="0"/>
                </a:moveTo>
                <a:lnTo>
                  <a:pt x="316" y="0"/>
                </a:lnTo>
                <a:lnTo>
                  <a:pt x="316" y="181"/>
                </a:lnTo>
                <a:lnTo>
                  <a:pt x="0" y="181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531120" y="4870440"/>
            <a:ext cx="425160" cy="649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531120" y="4870440"/>
            <a:ext cx="439560" cy="663480"/>
          </a:xfrm>
          <a:custGeom>
            <a:avLst/>
            <a:gdLst/>
            <a:ahLst/>
            <a:rect l="l" t="t" r="r" b="b"/>
            <a:pathLst>
              <a:path w="277" h="418">
                <a:moveTo>
                  <a:pt x="0" y="0"/>
                </a:moveTo>
                <a:lnTo>
                  <a:pt x="276" y="0"/>
                </a:lnTo>
                <a:lnTo>
                  <a:pt x="276" y="417"/>
                </a:lnTo>
                <a:lnTo>
                  <a:pt x="0" y="41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31120" y="5532480"/>
            <a:ext cx="222120" cy="328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531120" y="5532480"/>
            <a:ext cx="236520" cy="34272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0" y="0"/>
                </a:moveTo>
                <a:lnTo>
                  <a:pt x="148" y="0"/>
                </a:lnTo>
                <a:lnTo>
                  <a:pt x="148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69240" y="6129360"/>
            <a:ext cx="436320" cy="414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69240" y="6129360"/>
            <a:ext cx="450720" cy="428760"/>
          </a:xfrm>
          <a:custGeom>
            <a:avLst/>
            <a:gdLst/>
            <a:ahLst/>
            <a:rect l="l" t="t" r="r" b="b"/>
            <a:pathLst>
              <a:path w="284" h="270">
                <a:moveTo>
                  <a:pt x="0" y="0"/>
                </a:moveTo>
                <a:lnTo>
                  <a:pt x="283" y="0"/>
                </a:lnTo>
                <a:lnTo>
                  <a:pt x="283" y="269"/>
                </a:lnTo>
                <a:lnTo>
                  <a:pt x="0" y="26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31280" y="6129360"/>
            <a:ext cx="457200" cy="39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31280" y="6129360"/>
            <a:ext cx="471240" cy="407880"/>
          </a:xfrm>
          <a:custGeom>
            <a:avLst/>
            <a:gdLst/>
            <a:ahLst/>
            <a:rect l="l" t="t" r="r" b="b"/>
            <a:pathLst>
              <a:path w="297" h="257">
                <a:moveTo>
                  <a:pt x="0" y="0"/>
                </a:moveTo>
                <a:lnTo>
                  <a:pt x="296" y="0"/>
                </a:lnTo>
                <a:lnTo>
                  <a:pt x="296" y="256"/>
                </a:lnTo>
                <a:lnTo>
                  <a:pt x="0" y="25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02640" y="4570560"/>
            <a:ext cx="168120" cy="7272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50000">
                <a:srgbClr val="dadada"/>
              </a:gs>
              <a:gs pos="100000">
                <a:srgbClr val="40404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02640" y="4570560"/>
            <a:ext cx="182520" cy="87120"/>
          </a:xfrm>
          <a:custGeom>
            <a:avLst/>
            <a:gdLst/>
            <a:ahLst/>
            <a:rect l="l" t="t" r="r" b="b"/>
            <a:pathLst>
              <a:path w="115" h="55">
                <a:moveTo>
                  <a:pt x="0" y="0"/>
                </a:moveTo>
                <a:lnTo>
                  <a:pt x="114" y="0"/>
                </a:lnTo>
                <a:lnTo>
                  <a:pt x="114" y="54"/>
                </a:lnTo>
                <a:lnTo>
                  <a:pt x="0" y="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983360" y="4527720"/>
            <a:ext cx="73080" cy="15876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50000">
                <a:srgbClr val="dadada"/>
              </a:gs>
              <a:gs pos="100000">
                <a:srgbClr val="40404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983360" y="4527720"/>
            <a:ext cx="87480" cy="172800"/>
          </a:xfrm>
          <a:custGeom>
            <a:avLst/>
            <a:gdLst/>
            <a:ahLst/>
            <a:rect l="l" t="t" r="r" b="b"/>
            <a:pathLst>
              <a:path w="55" h="109">
                <a:moveTo>
                  <a:pt x="0" y="0"/>
                </a:moveTo>
                <a:lnTo>
                  <a:pt x="54" y="0"/>
                </a:lnTo>
                <a:lnTo>
                  <a:pt x="54" y="108"/>
                </a:ln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032600" y="4570560"/>
            <a:ext cx="169920" cy="7272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50000">
                <a:srgbClr val="dadada"/>
              </a:gs>
              <a:gs pos="100000">
                <a:srgbClr val="40404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32600" y="4570560"/>
            <a:ext cx="184320" cy="87120"/>
          </a:xfrm>
          <a:custGeom>
            <a:avLst/>
            <a:gdLst/>
            <a:ahLst/>
            <a:rect l="l" t="t" r="r" b="b"/>
            <a:pathLst>
              <a:path w="116" h="55">
                <a:moveTo>
                  <a:pt x="0" y="0"/>
                </a:moveTo>
                <a:lnTo>
                  <a:pt x="115" y="0"/>
                </a:lnTo>
                <a:lnTo>
                  <a:pt x="115" y="54"/>
                </a:lnTo>
                <a:lnTo>
                  <a:pt x="0" y="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58080" y="4527720"/>
            <a:ext cx="73080" cy="15876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50000">
                <a:srgbClr val="dadada"/>
              </a:gs>
              <a:gs pos="100000">
                <a:srgbClr val="40404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58080" y="4527720"/>
            <a:ext cx="87120" cy="172800"/>
          </a:xfrm>
          <a:custGeom>
            <a:avLst/>
            <a:gdLst/>
            <a:ahLst/>
            <a:rect l="l" t="t" r="r" b="b"/>
            <a:pathLst>
              <a:path w="55" h="109">
                <a:moveTo>
                  <a:pt x="0" y="0"/>
                </a:moveTo>
                <a:lnTo>
                  <a:pt x="54" y="0"/>
                </a:lnTo>
                <a:lnTo>
                  <a:pt x="54" y="108"/>
                </a:ln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15120" y="4235400"/>
            <a:ext cx="585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284960" y="4186080"/>
            <a:ext cx="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59480" y="4186080"/>
            <a:ext cx="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434360" y="4186080"/>
            <a:ext cx="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08880" y="4186080"/>
            <a:ext cx="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83400" y="4186080"/>
            <a:ext cx="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59720" y="4186080"/>
            <a:ext cx="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734240" y="4186080"/>
            <a:ext cx="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48560" y="6097680"/>
            <a:ext cx="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23080" y="6097680"/>
            <a:ext cx="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797960" y="6097680"/>
            <a:ext cx="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72480" y="6097680"/>
            <a:ext cx="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47000" y="6097680"/>
            <a:ext cx="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21520" y="6097680"/>
            <a:ext cx="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096400" y="6097680"/>
            <a:ext cx="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75360" y="6086520"/>
            <a:ext cx="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39080" y="6086520"/>
            <a:ext cx="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24760" y="6086520"/>
            <a:ext cx="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88120" y="6086520"/>
            <a:ext cx="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273800" y="6086520"/>
            <a:ext cx="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48680" y="6086520"/>
            <a:ext cx="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424640" y="6086520"/>
            <a:ext cx="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580080" y="5489640"/>
            <a:ext cx="0" cy="9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43800" y="5489640"/>
            <a:ext cx="0" cy="9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29480" y="5489640"/>
            <a:ext cx="0" cy="9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69240" y="5734080"/>
            <a:ext cx="417240" cy="396720"/>
          </a:xfrm>
          <a:custGeom>
            <a:avLst/>
            <a:gdLst/>
            <a:ahLst/>
            <a:rect l="l" t="t" r="r" b="b"/>
            <a:pathLst>
              <a:path w="263" h="250">
                <a:moveTo>
                  <a:pt x="0" y="7"/>
                </a:moveTo>
                <a:lnTo>
                  <a:pt x="7" y="7"/>
                </a:lnTo>
                <a:lnTo>
                  <a:pt x="13" y="0"/>
                </a:lnTo>
                <a:lnTo>
                  <a:pt x="20" y="0"/>
                </a:lnTo>
                <a:lnTo>
                  <a:pt x="40" y="0"/>
                </a:lnTo>
                <a:lnTo>
                  <a:pt x="47" y="7"/>
                </a:lnTo>
                <a:lnTo>
                  <a:pt x="54" y="7"/>
                </a:lnTo>
                <a:lnTo>
                  <a:pt x="60" y="14"/>
                </a:lnTo>
                <a:lnTo>
                  <a:pt x="67" y="27"/>
                </a:lnTo>
                <a:lnTo>
                  <a:pt x="74" y="27"/>
                </a:lnTo>
                <a:lnTo>
                  <a:pt x="81" y="41"/>
                </a:lnTo>
                <a:lnTo>
                  <a:pt x="94" y="48"/>
                </a:lnTo>
                <a:lnTo>
                  <a:pt x="101" y="61"/>
                </a:lnTo>
                <a:lnTo>
                  <a:pt x="108" y="68"/>
                </a:lnTo>
                <a:lnTo>
                  <a:pt x="114" y="81"/>
                </a:lnTo>
                <a:lnTo>
                  <a:pt x="121" y="88"/>
                </a:lnTo>
                <a:lnTo>
                  <a:pt x="128" y="108"/>
                </a:lnTo>
                <a:lnTo>
                  <a:pt x="134" y="108"/>
                </a:lnTo>
                <a:lnTo>
                  <a:pt x="141" y="122"/>
                </a:lnTo>
                <a:lnTo>
                  <a:pt x="148" y="135"/>
                </a:lnTo>
                <a:lnTo>
                  <a:pt x="155" y="142"/>
                </a:lnTo>
                <a:lnTo>
                  <a:pt x="161" y="148"/>
                </a:lnTo>
                <a:lnTo>
                  <a:pt x="182" y="162"/>
                </a:lnTo>
                <a:lnTo>
                  <a:pt x="222" y="169"/>
                </a:lnTo>
                <a:lnTo>
                  <a:pt x="222" y="175"/>
                </a:lnTo>
                <a:lnTo>
                  <a:pt x="229" y="189"/>
                </a:lnTo>
                <a:lnTo>
                  <a:pt x="235" y="189"/>
                </a:lnTo>
                <a:lnTo>
                  <a:pt x="242" y="196"/>
                </a:lnTo>
                <a:lnTo>
                  <a:pt x="242" y="202"/>
                </a:lnTo>
                <a:lnTo>
                  <a:pt x="242" y="209"/>
                </a:lnTo>
                <a:lnTo>
                  <a:pt x="249" y="209"/>
                </a:lnTo>
                <a:lnTo>
                  <a:pt x="249" y="216"/>
                </a:lnTo>
                <a:lnTo>
                  <a:pt x="256" y="216"/>
                </a:lnTo>
                <a:lnTo>
                  <a:pt x="256" y="222"/>
                </a:lnTo>
                <a:lnTo>
                  <a:pt x="262" y="222"/>
                </a:lnTo>
                <a:lnTo>
                  <a:pt x="262" y="229"/>
                </a:lnTo>
                <a:lnTo>
                  <a:pt x="262" y="236"/>
                </a:lnTo>
                <a:lnTo>
                  <a:pt x="262" y="243"/>
                </a:lnTo>
                <a:lnTo>
                  <a:pt x="262" y="24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97760" y="5799240"/>
            <a:ext cx="128520" cy="193680"/>
          </a:xfrm>
          <a:custGeom>
            <a:avLst/>
            <a:gdLst/>
            <a:ahLst/>
            <a:rect l="l" t="t" r="r" b="b"/>
            <a:pathLst>
              <a:path w="81" h="122">
                <a:moveTo>
                  <a:pt x="33" y="0"/>
                </a:moveTo>
                <a:lnTo>
                  <a:pt x="80" y="0"/>
                </a:lnTo>
                <a:lnTo>
                  <a:pt x="47" y="121"/>
                </a:lnTo>
                <a:lnTo>
                  <a:pt x="0" y="121"/>
                </a:lnTo>
                <a:lnTo>
                  <a:pt x="33" y="0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897680" y="4954680"/>
            <a:ext cx="447840" cy="104760"/>
          </a:xfrm>
          <a:prstGeom prst="rect">
            <a:avLst/>
          </a:prstGeom>
          <a:solidFill>
            <a:srgbClr val="f6b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97680" y="4954680"/>
            <a:ext cx="462240" cy="118800"/>
          </a:xfrm>
          <a:custGeom>
            <a:avLst/>
            <a:gdLst/>
            <a:ahLst/>
            <a:rect l="l" t="t" r="r" b="b"/>
            <a:pathLst>
              <a:path w="291" h="75">
                <a:moveTo>
                  <a:pt x="0" y="0"/>
                </a:moveTo>
                <a:lnTo>
                  <a:pt x="290" y="0"/>
                </a:lnTo>
                <a:lnTo>
                  <a:pt x="290" y="74"/>
                </a:lnTo>
                <a:lnTo>
                  <a:pt x="0" y="7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43840" y="4971960"/>
            <a:ext cx="144360" cy="81000"/>
          </a:xfrm>
          <a:prstGeom prst="roundRect">
            <a:avLst>
              <a:gd name="adj" fmla="val 4924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31120" y="4879800"/>
            <a:ext cx="258480" cy="162000"/>
          </a:xfrm>
          <a:custGeom>
            <a:avLst/>
            <a:gdLst/>
            <a:ahLst/>
            <a:rect l="l" t="t" r="r" b="b"/>
            <a:pathLst>
              <a:path w="163" h="102">
                <a:moveTo>
                  <a:pt x="0" y="101"/>
                </a:moveTo>
                <a:lnTo>
                  <a:pt x="7" y="101"/>
                </a:lnTo>
                <a:lnTo>
                  <a:pt x="7" y="95"/>
                </a:lnTo>
                <a:lnTo>
                  <a:pt x="13" y="95"/>
                </a:lnTo>
                <a:lnTo>
                  <a:pt x="13" y="88"/>
                </a:lnTo>
                <a:lnTo>
                  <a:pt x="20" y="88"/>
                </a:lnTo>
                <a:lnTo>
                  <a:pt x="20" y="81"/>
                </a:lnTo>
                <a:lnTo>
                  <a:pt x="27" y="74"/>
                </a:lnTo>
                <a:lnTo>
                  <a:pt x="27" y="68"/>
                </a:lnTo>
                <a:lnTo>
                  <a:pt x="34" y="61"/>
                </a:lnTo>
                <a:lnTo>
                  <a:pt x="40" y="54"/>
                </a:lnTo>
                <a:lnTo>
                  <a:pt x="47" y="54"/>
                </a:lnTo>
                <a:lnTo>
                  <a:pt x="54" y="54"/>
                </a:lnTo>
                <a:lnTo>
                  <a:pt x="54" y="47"/>
                </a:lnTo>
                <a:lnTo>
                  <a:pt x="61" y="41"/>
                </a:lnTo>
                <a:lnTo>
                  <a:pt x="74" y="41"/>
                </a:lnTo>
                <a:lnTo>
                  <a:pt x="81" y="34"/>
                </a:lnTo>
                <a:lnTo>
                  <a:pt x="94" y="21"/>
                </a:lnTo>
                <a:lnTo>
                  <a:pt x="108" y="21"/>
                </a:lnTo>
                <a:lnTo>
                  <a:pt x="114" y="21"/>
                </a:lnTo>
                <a:lnTo>
                  <a:pt x="121" y="14"/>
                </a:lnTo>
                <a:lnTo>
                  <a:pt x="128" y="14"/>
                </a:lnTo>
                <a:lnTo>
                  <a:pt x="135" y="14"/>
                </a:lnTo>
                <a:lnTo>
                  <a:pt x="135" y="7"/>
                </a:lnTo>
                <a:lnTo>
                  <a:pt x="141" y="7"/>
                </a:lnTo>
                <a:lnTo>
                  <a:pt x="148" y="7"/>
                </a:lnTo>
                <a:lnTo>
                  <a:pt x="155" y="0"/>
                </a:lnTo>
                <a:lnTo>
                  <a:pt x="16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00800" y="4687920"/>
            <a:ext cx="381240" cy="8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00800" y="4687920"/>
            <a:ext cx="395280" cy="98280"/>
          </a:xfrm>
          <a:custGeom>
            <a:avLst/>
            <a:gdLst/>
            <a:ahLst/>
            <a:rect l="l" t="t" r="r" b="b"/>
            <a:pathLst>
              <a:path w="249" h="62">
                <a:moveTo>
                  <a:pt x="0" y="0"/>
                </a:moveTo>
                <a:lnTo>
                  <a:pt x="248" y="0"/>
                </a:lnTo>
                <a:lnTo>
                  <a:pt x="248" y="61"/>
                </a:lnTo>
                <a:lnTo>
                  <a:pt x="0" y="6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16640" y="4384800"/>
            <a:ext cx="92160" cy="166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20040" y="4384800"/>
            <a:ext cx="92160" cy="166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51560" y="4457880"/>
            <a:ext cx="28800" cy="91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42360" y="4459320"/>
            <a:ext cx="2700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49520" y="3313080"/>
            <a:ext cx="2200320" cy="1922400"/>
          </a:xfrm>
          <a:prstGeom prst="rect">
            <a:avLst/>
          </a:prstGeom>
          <a:solidFill>
            <a:srgbClr val="45a2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49520" y="3313080"/>
            <a:ext cx="2214720" cy="1936800"/>
          </a:xfrm>
          <a:custGeom>
            <a:avLst/>
            <a:gdLst/>
            <a:ahLst/>
            <a:rect l="l" t="t" r="r" b="b"/>
            <a:pathLst>
              <a:path w="1395" h="1220">
                <a:moveTo>
                  <a:pt x="0" y="0"/>
                </a:moveTo>
                <a:lnTo>
                  <a:pt x="1394" y="0"/>
                </a:lnTo>
                <a:lnTo>
                  <a:pt x="1394" y="1219"/>
                </a:lnTo>
                <a:lnTo>
                  <a:pt x="0" y="1219"/>
                </a:lnTo>
                <a:lnTo>
                  <a:pt x="0" y="0"/>
                </a:lnTo>
              </a:path>
            </a:pathLst>
          </a:custGeom>
          <a:solidFill>
            <a:srgbClr val="45a2f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097160" y="3497400"/>
            <a:ext cx="927360" cy="1511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55480" y="2411280"/>
            <a:ext cx="2279880" cy="19098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5480" y="2411280"/>
            <a:ext cx="2293920" cy="1924200"/>
          </a:xfrm>
          <a:custGeom>
            <a:avLst/>
            <a:gdLst/>
            <a:ahLst/>
            <a:rect l="l" t="t" r="r" b="b"/>
            <a:pathLst>
              <a:path w="1445" h="1212">
                <a:moveTo>
                  <a:pt x="0" y="0"/>
                </a:moveTo>
                <a:lnTo>
                  <a:pt x="1444" y="0"/>
                </a:lnTo>
                <a:lnTo>
                  <a:pt x="1444" y="1211"/>
                </a:lnTo>
                <a:lnTo>
                  <a:pt x="0" y="121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923760" y="2660760"/>
            <a:ext cx="1586160" cy="1422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57200" y="1905120"/>
            <a:ext cx="2514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HOW ERROR FREE IS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10240" y="2162160"/>
            <a:ext cx="122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SOFTWAR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56200" y="2975040"/>
            <a:ext cx="3022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WHEN SHOULD I STOP TESTING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13760" y="3203640"/>
            <a:ext cx="2532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SHOULD THE PROGRAM 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87800" y="3381480"/>
            <a:ext cx="1626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REENGINEERED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3505320"/>
            <a:ext cx="939600" cy="679320"/>
          </a:xfrm>
          <a:prstGeom prst="rtTriangle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6140000">
            <a:off x="4222080" y="3986640"/>
            <a:ext cx="1349280" cy="604800"/>
          </a:xfrm>
          <a:prstGeom prst="triangle">
            <a:avLst>
              <a:gd name="adj" fmla="val 51176"/>
            </a:avLst>
          </a:prstGeom>
          <a:solidFill>
            <a:srgbClr val="45a2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60000">
            <a:off x="3564000" y="3999240"/>
            <a:ext cx="1298520" cy="585720"/>
          </a:xfrm>
          <a:prstGeom prst="triangle">
            <a:avLst>
              <a:gd name="adj" fmla="val 48819"/>
            </a:avLst>
          </a:prstGeom>
          <a:solidFill>
            <a:srgbClr val="45a2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50840" y="3763800"/>
            <a:ext cx="212760" cy="98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52560" y="3740040"/>
            <a:ext cx="93600" cy="10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25560" y="3632040"/>
            <a:ext cx="119880" cy="14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12" y="21596"/>
                </a:moveTo>
                <a:arcTo wR="10800" hR="10800" stAng="5491652" swAng="5308348"/>
                <a:lnTo>
                  <a:pt x="10800" y="10800"/>
                </a:lnTo>
                <a:close/>
              </a:path>
              <a:path fill="none" w="21600" h="21600">
                <a:moveTo>
                  <a:pt x="10512" y="21596"/>
                </a:moveTo>
                <a:arcTo wR="10800" hR="10800" stAng="5491652" swAng="5308348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81000" y="3610440"/>
            <a:ext cx="53640" cy="145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47" y="21580"/>
                </a:moveTo>
                <a:arcTo wR="10800" hR="10800" stAng="5608094" swAng="5191906"/>
                <a:lnTo>
                  <a:pt x="10800" y="10800"/>
                </a:lnTo>
                <a:close/>
              </a:path>
              <a:path fill="none" w="21600" h="21600">
                <a:moveTo>
                  <a:pt x="10147" y="21580"/>
                </a:moveTo>
                <a:arcTo wR="10800" hR="10800" stAng="5608094" swAng="5191906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46160" y="3836880"/>
            <a:ext cx="139320" cy="16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21883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21883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55600" y="3827520"/>
            <a:ext cx="95400" cy="21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43"/>
                </a:moveTo>
                <a:arcTo wR="10800" hR="10800" stAng="-10749895" swAng="5238051"/>
                <a:lnTo>
                  <a:pt x="10800" y="10800"/>
                </a:lnTo>
                <a:close/>
              </a:path>
              <a:path fill="none" w="21600" h="21600">
                <a:moveTo>
                  <a:pt x="1" y="10643"/>
                </a:moveTo>
                <a:arcTo wR="10800" hR="10800" stAng="-10749895" swAng="5238051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66760" y="3825720"/>
            <a:ext cx="95040" cy="21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49" y="6"/>
                </a:moveTo>
                <a:arcTo wR="10800" hR="10800" stAng="-5511844" swAng="5460070"/>
                <a:lnTo>
                  <a:pt x="10800" y="10800"/>
                </a:lnTo>
                <a:close/>
              </a:path>
              <a:path fill="none" w="21600" h="21600">
                <a:moveTo>
                  <a:pt x="10449" y="6"/>
                </a:moveTo>
                <a:arcTo wR="10800" hR="10800" stAng="-5511844" swAng="546007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6200000">
            <a:off x="1676160" y="3199680"/>
            <a:ext cx="762120" cy="1067040"/>
          </a:xfrm>
          <a:prstGeom prst="rtTriangle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34080" y="3600360"/>
            <a:ext cx="94320" cy="13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46" y="6"/>
                </a:moveTo>
                <a:arcTo wR="10800" hR="10800" stAng="-5512673" swAng="5512673"/>
                <a:lnTo>
                  <a:pt x="10800" y="10800"/>
                </a:lnTo>
                <a:close/>
              </a:path>
              <a:path fill="none" w="21600" h="21600">
                <a:moveTo>
                  <a:pt x="10446" y="6"/>
                </a:moveTo>
                <a:arcTo wR="10800" hR="10800" stAng="-5512673" swAng="5512673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15840" y="3597120"/>
            <a:ext cx="511200" cy="1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21419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21419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76480" y="363852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66840" y="3578400"/>
            <a:ext cx="18072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14" y="2"/>
                </a:moveTo>
                <a:arcTo wR="10800" hR="10800" stAng="-5459257" swAng="5397884"/>
                <a:lnTo>
                  <a:pt x="10800" y="10800"/>
                </a:lnTo>
                <a:close/>
              </a:path>
              <a:path fill="none" w="21600" h="21600">
                <a:moveTo>
                  <a:pt x="10614" y="2"/>
                </a:moveTo>
                <a:arcTo wR="10800" hR="10800" stAng="-5459257" swAng="5397884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36600" y="3537000"/>
            <a:ext cx="171720" cy="65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50920" y="3525840"/>
            <a:ext cx="115920" cy="133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13120" y="3384360"/>
            <a:ext cx="139320" cy="16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77920" y="3406680"/>
            <a:ext cx="117000" cy="14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63600" y="3578400"/>
            <a:ext cx="117360" cy="16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08" y="4"/>
                </a:moveTo>
                <a:arcTo wR="10800" hR="10800" stAng="-5492889" swAng="5492889"/>
                <a:lnTo>
                  <a:pt x="10800" y="10800"/>
                </a:lnTo>
                <a:close/>
              </a:path>
              <a:path fill="none" w="21600" h="21600">
                <a:moveTo>
                  <a:pt x="10508" y="4"/>
                </a:moveTo>
                <a:arcTo wR="10800" hR="10800" stAng="-5492889" swAng="5492889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76480" y="3621240"/>
            <a:ext cx="34920" cy="47520"/>
          </a:xfrm>
          <a:custGeom>
            <a:avLst/>
            <a:gdLst/>
            <a:ahLst/>
            <a:rect l="l" t="t" r="r" b="b"/>
            <a:pathLst>
              <a:path w="22" h="30">
                <a:moveTo>
                  <a:pt x="0" y="21"/>
                </a:moveTo>
                <a:lnTo>
                  <a:pt x="21" y="0"/>
                </a:lnTo>
                <a:lnTo>
                  <a:pt x="21" y="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98800" y="3576600"/>
            <a:ext cx="9360" cy="9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0920000">
            <a:off x="1736280" y="2582280"/>
            <a:ext cx="968400" cy="657000"/>
          </a:xfrm>
          <a:prstGeom prst="rtTriangle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58920" y="2768760"/>
            <a:ext cx="160560" cy="1443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76480" y="2808360"/>
            <a:ext cx="358560" cy="12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04" y="0"/>
                </a:moveTo>
                <a:arcTo wR="10800" hR="10800" stAng="-5430557" swAng="5430557"/>
                <a:lnTo>
                  <a:pt x="10800" y="10800"/>
                </a:lnTo>
                <a:close/>
              </a:path>
              <a:path fill="none" w="21600" h="21600">
                <a:moveTo>
                  <a:pt x="10704" y="0"/>
                </a:moveTo>
                <a:arcTo wR="10800" hR="10800" stAng="-5430557" swAng="5430557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20840" y="2743200"/>
            <a:ext cx="333000" cy="9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" y="10459"/>
                </a:moveTo>
                <a:arcTo wR="10800" hR="10800" stAng="-10691416" swAng="5259340"/>
                <a:lnTo>
                  <a:pt x="10800" y="10800"/>
                </a:lnTo>
                <a:close/>
              </a:path>
              <a:path fill="none" w="21600" h="21600">
                <a:moveTo>
                  <a:pt x="5" y="10459"/>
                </a:moveTo>
                <a:arcTo wR="10800" hR="10800" stAng="-10691416" swAng="525934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71600" y="2874960"/>
            <a:ext cx="46080" cy="23760"/>
          </a:xfrm>
          <a:custGeom>
            <a:avLst/>
            <a:gdLst/>
            <a:ahLst/>
            <a:rect l="l" t="t" r="r" b="b"/>
            <a:pathLst>
              <a:path w="29" h="15">
                <a:moveTo>
                  <a:pt x="28" y="0"/>
                </a:moveTo>
                <a:lnTo>
                  <a:pt x="0" y="0"/>
                </a:lnTo>
                <a:lnTo>
                  <a:pt x="28" y="14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57560" y="2830680"/>
            <a:ext cx="6120" cy="9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53160" y="2864160"/>
            <a:ext cx="205560" cy="7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1" y="10356"/>
                </a:moveTo>
                <a:arcTo wR="10800" hR="10800" stAng="-141333" swAng="5595737"/>
                <a:lnTo>
                  <a:pt x="10800" y="10800"/>
                </a:lnTo>
                <a:close/>
              </a:path>
              <a:path fill="none" w="21600" h="21600">
                <a:moveTo>
                  <a:pt x="21591" y="10356"/>
                </a:moveTo>
                <a:arcTo wR="10800" hR="10800" stAng="-141333" swAng="5595737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19500000">
            <a:off x="606600" y="2514240"/>
            <a:ext cx="1222200" cy="523800"/>
          </a:xfrm>
          <a:prstGeom prst="triangle">
            <a:avLst>
              <a:gd name="adj" fmla="val 36843"/>
            </a:avLst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10800000">
            <a:off x="4258800" y="3993840"/>
            <a:ext cx="584280" cy="315720"/>
          </a:xfrm>
          <a:prstGeom prst="triangle">
            <a:avLst>
              <a:gd name="adj" fmla="val 49995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35400" y="4710240"/>
            <a:ext cx="635040" cy="104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13280" y="3479760"/>
            <a:ext cx="1130400" cy="114480"/>
          </a:xfrm>
          <a:prstGeom prst="rect">
            <a:avLst/>
          </a:prstGeom>
          <a:solidFill>
            <a:srgbClr val="45a2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95640" y="4910040"/>
            <a:ext cx="1130400" cy="114480"/>
          </a:xfrm>
          <a:prstGeom prst="rect">
            <a:avLst/>
          </a:prstGeom>
          <a:solidFill>
            <a:srgbClr val="45a2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046400" y="4805280"/>
            <a:ext cx="139680" cy="114480"/>
          </a:xfrm>
          <a:prstGeom prst="rect">
            <a:avLst/>
          </a:prstGeom>
          <a:solidFill>
            <a:srgbClr val="45a2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905360" y="4800600"/>
            <a:ext cx="139680" cy="114480"/>
          </a:xfrm>
          <a:prstGeom prst="rect">
            <a:avLst/>
          </a:prstGeom>
          <a:solidFill>
            <a:srgbClr val="45a2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21200" y="3594240"/>
            <a:ext cx="139680" cy="114120"/>
          </a:xfrm>
          <a:prstGeom prst="rect">
            <a:avLst/>
          </a:prstGeom>
          <a:solidFill>
            <a:srgbClr val="45a2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61080" y="3699000"/>
            <a:ext cx="188640" cy="55440"/>
          </a:xfrm>
          <a:prstGeom prst="rect">
            <a:avLst/>
          </a:prstGeom>
          <a:solidFill>
            <a:srgbClr val="45a2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3741840"/>
            <a:ext cx="185760" cy="309600"/>
          </a:xfrm>
          <a:prstGeom prst="rect">
            <a:avLst/>
          </a:prstGeom>
          <a:solidFill>
            <a:srgbClr val="45a2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44960" y="3589200"/>
            <a:ext cx="150840" cy="114480"/>
          </a:xfrm>
          <a:prstGeom prst="rect">
            <a:avLst/>
          </a:prstGeom>
          <a:solidFill>
            <a:srgbClr val="45a2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86360" y="3695760"/>
            <a:ext cx="158760" cy="55440"/>
          </a:xfrm>
          <a:prstGeom prst="rect">
            <a:avLst/>
          </a:prstGeom>
          <a:solidFill>
            <a:srgbClr val="45a2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86360" y="3733920"/>
            <a:ext cx="139680" cy="203040"/>
          </a:xfrm>
          <a:prstGeom prst="rect">
            <a:avLst/>
          </a:prstGeom>
          <a:solidFill>
            <a:srgbClr val="45a2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86360" y="4592520"/>
            <a:ext cx="139680" cy="114480"/>
          </a:xfrm>
          <a:prstGeom prst="rect">
            <a:avLst/>
          </a:prstGeom>
          <a:solidFill>
            <a:srgbClr val="45a2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86360" y="4689360"/>
            <a:ext cx="139680" cy="114480"/>
          </a:xfrm>
          <a:prstGeom prst="rect">
            <a:avLst/>
          </a:prstGeom>
          <a:solidFill>
            <a:srgbClr val="45a2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81600" y="4591080"/>
            <a:ext cx="139680" cy="114120"/>
          </a:xfrm>
          <a:prstGeom prst="rect">
            <a:avLst/>
          </a:prstGeom>
          <a:solidFill>
            <a:srgbClr val="45a2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86280" y="4695840"/>
            <a:ext cx="139680" cy="114120"/>
          </a:xfrm>
          <a:prstGeom prst="rect">
            <a:avLst/>
          </a:prstGeom>
          <a:solidFill>
            <a:srgbClr val="45a2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452840" y="4584600"/>
            <a:ext cx="187560" cy="135000"/>
          </a:xfrm>
          <a:prstGeom prst="triangle">
            <a:avLst>
              <a:gd name="adj" fmla="val 49995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30172-C2F4-44B9-818D-8F774A5FCAE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23720" y="304920"/>
            <a:ext cx="4876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OFTWARE RELIABIL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PROBABILITY THAT A GIVEN SOFTWARE PROGRAM WILL OPERATE WITHOUT FAILURE FOR A SPECIFIED TIME IN A SPECIFIED ENVIRO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OFTWARE RELIABILITY ENGINEERING (SR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APPLICATION OF STATISTICAL TECHNIQUES TO DATA COLLECTED DURING SYSTEM DEVELOPMENT AND OPERATION TO 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SPECIFY, PREDICT, ESTIMATE, AND ASSES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OFTWARE RELIABILITY OF SOFTWARE-BASED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AC073-8B71-4695-A6A6-89CB37A4854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14600" y="304920"/>
            <a:ext cx="5943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rors, Faults, Fail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ERR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Human action that results in software containing a fa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FA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A defect in code that can be the cause of one or more failures (synonymous with “bug”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FAIL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The inability of a system or system component to perform a required function within specified limits.  A departure of program operation from program requir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ROR =&gt; FAULT(S) =&gt; FAILURE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BBB2A-22F5-4663-9180-2F906D2B6E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5867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PERATIONAL PRO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Ope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A major system logical task of short duration, which returns control to the system when complete and whose processing is substantially different from other op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Operational prof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It is simply the set of operations and their probability of occurr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0BD32-8767-4BD4-9DBB-FC292BBB7D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1T16:32:58Z</dcterms:created>
  <dc:creator>William Farr</dc:creator>
  <dc:description/>
  <dc:language>en-US</dc:language>
  <cp:lastModifiedBy>William H. Farr</cp:lastModifiedBy>
  <cp:lastPrinted>1999-11-23T13:49:36Z</cp:lastPrinted>
  <dcterms:modified xsi:type="dcterms:W3CDTF">2002-05-15T16:46:31Z</dcterms:modified>
  <cp:revision>86</cp:revision>
  <dc:subject/>
  <dc:title>SOFTWARE QUALITY ASSESSMENT -  A PROPOSED APPROACH</dc:title>
</cp:coreProperties>
</file>